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2B404-4E07-4D3F-8AE6-47226D76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E0D0-F2B2-4433-B9EC-32BADB6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DEF0-0661-4827-94DE-E7A71E56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BE08-7033-4633-B226-A282E6A3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97D6-0BDE-4626-A3AD-8AE47E41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B23A-1D04-4EEE-B3FB-A0326CB1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FFF0-34A0-4BF9-95DE-EB03ECA7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F3A1-7DB3-4BF5-9A13-25B4B4E3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61C-A266-424B-9028-7B68DE7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CD18-7455-4257-AF61-277D5AE2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80D4-CBFC-42A0-88B3-9E9A7BC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5773-D3C2-43BF-88C7-BC4D0A3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015C-9079-4C1B-8E61-42EECC5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1FED-8D02-4C06-AD9D-034186DD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AFCC-0F25-490B-B418-108C1B6D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0AC1-C486-4FCD-B633-ABDD6E8C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C0F7-DB58-46B3-8EF6-89FD12BE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31C3-5779-4BBD-AFFC-BC9D2797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2684-84D8-4102-B5D1-33AD292E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6409-7984-4ACD-957C-343F67D9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44CB-E51A-4789-B3C1-D2648CC4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4DB6-D2AD-406B-8306-9FBBD04C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31265-7C59-4382-8931-DCF0B962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FA98-D7B6-4829-BD28-8FEAF04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8A81-65B4-4F55-9681-0FF88CDB7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8481-875C-4F25-898D-EAFF3838D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SA Review Day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733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:  Students will use the Pythagorean Theorem to solve right triangle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923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it 7:  Measurement Course 2 February 14,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81200" y="5742000"/>
            <a:ext cx="3035520" cy="54000"/>
          </a:xfrm>
          <a:custGeom>
            <a:avLst/>
            <a:gdLst/>
            <a:ahLst/>
            <a:rect l="l" t="t" r="r" b="b"/>
            <a:pathLst>
              <a:path w="8434" h="150">
                <a:moveTo>
                  <a:pt x="7169" y="16098"/>
                </a:moveTo>
                <a:cubicBezTo>
                  <a:pt x="7311" y="16078"/>
                  <a:pt x="7443" y="16044"/>
                  <a:pt x="7590" y="16049"/>
                </a:cubicBezTo>
                <a:cubicBezTo>
                  <a:pt x="7796" y="16057"/>
                  <a:pt x="8004" y="16090"/>
                  <a:pt x="8210" y="16098"/>
                </a:cubicBezTo>
                <a:cubicBezTo>
                  <a:pt x="8625" y="16114"/>
                  <a:pt x="9065" y="16122"/>
                  <a:pt x="9475" y="16073"/>
                </a:cubicBezTo>
                <a:cubicBezTo>
                  <a:pt x="9715" y="16044"/>
                  <a:pt x="9952" y="15965"/>
                  <a:pt x="10195" y="15974"/>
                </a:cubicBezTo>
                <a:cubicBezTo>
                  <a:pt x="10404" y="15982"/>
                  <a:pt x="10605" y="16019"/>
                  <a:pt x="10815" y="16024"/>
                </a:cubicBezTo>
                <a:cubicBezTo>
                  <a:pt x="10969" y="16028"/>
                  <a:pt x="11126" y="16024"/>
                  <a:pt x="11286" y="16024"/>
                </a:cubicBezTo>
                <a:cubicBezTo>
                  <a:pt x="11642" y="16024"/>
                  <a:pt x="11999" y="16029"/>
                  <a:pt x="12353" y="15999"/>
                </a:cubicBezTo>
                <a:cubicBezTo>
                  <a:pt x="12690" y="15971"/>
                  <a:pt x="13009" y="15985"/>
                  <a:pt x="13345" y="15999"/>
                </a:cubicBezTo>
                <a:cubicBezTo>
                  <a:pt x="13593" y="16009"/>
                  <a:pt x="13841" y="16020"/>
                  <a:pt x="14089" y="16024"/>
                </a:cubicBezTo>
                <a:cubicBezTo>
                  <a:pt x="14299" y="16027"/>
                  <a:pt x="14501" y="16002"/>
                  <a:pt x="14709" y="15999"/>
                </a:cubicBezTo>
                <a:cubicBezTo>
                  <a:pt x="14938" y="15995"/>
                  <a:pt x="15178" y="15941"/>
                  <a:pt x="15404" y="15949"/>
                </a:cubicBezTo>
                <a:cubicBezTo>
                  <a:pt x="15455" y="15951"/>
                  <a:pt x="15542" y="15970"/>
                  <a:pt x="15602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ythagorean Theor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applies to right triang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gs are the sides of the triangl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otenuse is the longest sid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2819160" cy="2057400"/>
          </a:xfrm>
          <a:prstGeom prst="rtTriangl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5334120"/>
            <a:ext cx="22860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81080" y="3962520"/>
            <a:ext cx="4038840" cy="2120760"/>
            <a:chOff x="1981080" y="3962520"/>
            <a:chExt cx="4038840" cy="2120760"/>
          </a:xfrm>
        </p:grpSpPr>
        <p:sp>
          <p:nvSpPr>
            <p:cNvPr id="110" name=""/>
            <p:cNvSpPr/>
            <p:nvPr/>
          </p:nvSpPr>
          <p:spPr>
            <a:xfrm>
              <a:off x="1981080" y="42670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le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562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le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396252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hypotenu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172200" y="3021120"/>
            <a:ext cx="306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you know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ngth of the t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s, how do you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length of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oten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76840" y="4313160"/>
            <a:ext cx="777960" cy="588960"/>
          </a:xfrm>
          <a:custGeom>
            <a:avLst/>
            <a:gdLst/>
            <a:ahLst/>
            <a:rect l="l" t="t" r="r" b="b"/>
            <a:pathLst>
              <a:path w="2159" h="1638">
                <a:moveTo>
                  <a:pt x="14461" y="12427"/>
                </a:moveTo>
                <a:cubicBezTo>
                  <a:pt x="14503" y="12469"/>
                  <a:pt x="14511" y="12477"/>
                  <a:pt x="14536" y="12502"/>
                </a:cubicBezTo>
                <a:cubicBezTo>
                  <a:pt x="14477" y="12471"/>
                  <a:pt x="14332" y="12343"/>
                  <a:pt x="14263" y="12427"/>
                </a:cubicBezTo>
                <a:cubicBezTo>
                  <a:pt x="14147" y="12568"/>
                  <a:pt x="14102" y="12864"/>
                  <a:pt x="14213" y="13022"/>
                </a:cubicBezTo>
                <a:cubicBezTo>
                  <a:pt x="14350" y="13218"/>
                  <a:pt x="14580" y="13034"/>
                  <a:pt x="14709" y="12948"/>
                </a:cubicBezTo>
                <a:cubicBezTo>
                  <a:pt x="14734" y="12931"/>
                  <a:pt x="14759" y="12915"/>
                  <a:pt x="14784" y="12898"/>
                </a:cubicBezTo>
              </a:path>
              <a:path w="2159" h="1638">
                <a:moveTo>
                  <a:pt x="13841" y="13519"/>
                </a:moveTo>
                <a:cubicBezTo>
                  <a:pt x="14067" y="13578"/>
                  <a:pt x="14274" y="13631"/>
                  <a:pt x="14511" y="13618"/>
                </a:cubicBezTo>
                <a:cubicBezTo>
                  <a:pt x="14834" y="13600"/>
                  <a:pt x="15076" y="13479"/>
                  <a:pt x="15280" y="13221"/>
                </a:cubicBezTo>
                <a:cubicBezTo>
                  <a:pt x="15442" y="13016"/>
                  <a:pt x="15440" y="12792"/>
                  <a:pt x="15404" y="12551"/>
                </a:cubicBezTo>
                <a:cubicBezTo>
                  <a:pt x="15370" y="12325"/>
                  <a:pt x="15277" y="12237"/>
                  <a:pt x="15081" y="12129"/>
                </a:cubicBezTo>
                <a:cubicBezTo>
                  <a:pt x="14844" y="11998"/>
                  <a:pt x="14559" y="11940"/>
                  <a:pt x="14288" y="11981"/>
                </a:cubicBezTo>
                <a:cubicBezTo>
                  <a:pt x="14069" y="12014"/>
                  <a:pt x="13726" y="12129"/>
                  <a:pt x="13543" y="12254"/>
                </a:cubicBezTo>
                <a:cubicBezTo>
                  <a:pt x="13391" y="12358"/>
                  <a:pt x="13271" y="12564"/>
                  <a:pt x="13271" y="12750"/>
                </a:cubicBezTo>
                <a:cubicBezTo>
                  <a:pt x="13271" y="12983"/>
                  <a:pt x="13434" y="13282"/>
                  <a:pt x="13618" y="13419"/>
                </a:cubicBezTo>
                <a:cubicBezTo>
                  <a:pt x="13846" y="13589"/>
                  <a:pt x="14079" y="13569"/>
                  <a:pt x="14337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64000" y="5581800"/>
            <a:ext cx="787320" cy="642960"/>
          </a:xfrm>
          <a:custGeom>
            <a:avLst/>
            <a:gdLst/>
            <a:ahLst/>
            <a:rect l="l" t="t" r="r" b="b"/>
            <a:pathLst>
              <a:path w="2184" h="1787">
                <a:moveTo>
                  <a:pt x="13047" y="15949"/>
                </a:moveTo>
                <a:cubicBezTo>
                  <a:pt x="13147" y="16218"/>
                  <a:pt x="13273" y="16473"/>
                  <a:pt x="13370" y="16743"/>
                </a:cubicBezTo>
                <a:cubicBezTo>
                  <a:pt x="13378" y="16768"/>
                  <a:pt x="13387" y="16793"/>
                  <a:pt x="13395" y="16818"/>
                </a:cubicBezTo>
                <a:cubicBezTo>
                  <a:pt x="13369" y="16740"/>
                  <a:pt x="13332" y="16631"/>
                  <a:pt x="13345" y="16545"/>
                </a:cubicBezTo>
                <a:cubicBezTo>
                  <a:pt x="13358" y="16455"/>
                  <a:pt x="13366" y="16363"/>
                  <a:pt x="13469" y="16346"/>
                </a:cubicBezTo>
                <a:cubicBezTo>
                  <a:pt x="13654" y="16315"/>
                  <a:pt x="13670" y="16425"/>
                  <a:pt x="13717" y="16570"/>
                </a:cubicBezTo>
                <a:cubicBezTo>
                  <a:pt x="13758" y="16696"/>
                  <a:pt x="13725" y="16732"/>
                  <a:pt x="13618" y="16818"/>
                </a:cubicBezTo>
                <a:cubicBezTo>
                  <a:pt x="13529" y="16889"/>
                  <a:pt x="13453" y="16892"/>
                  <a:pt x="13345" y="16892"/>
                </a:cubicBezTo>
                <a:cubicBezTo>
                  <a:pt x="13310" y="16892"/>
                  <a:pt x="13293" y="16887"/>
                  <a:pt x="13271" y="16867"/>
                </a:cubicBezTo>
              </a:path>
              <a:path w="2184" h="1787">
                <a:moveTo>
                  <a:pt x="12948" y="17264"/>
                </a:moveTo>
                <a:cubicBezTo>
                  <a:pt x="13099" y="17272"/>
                  <a:pt x="13243" y="17298"/>
                  <a:pt x="13395" y="17289"/>
                </a:cubicBezTo>
                <a:cubicBezTo>
                  <a:pt x="13660" y="17274"/>
                  <a:pt x="13916" y="17202"/>
                  <a:pt x="14139" y="17066"/>
                </a:cubicBezTo>
                <a:cubicBezTo>
                  <a:pt x="14368" y="16927"/>
                  <a:pt x="14506" y="16706"/>
                  <a:pt x="14560" y="16446"/>
                </a:cubicBezTo>
                <a:cubicBezTo>
                  <a:pt x="14608" y="16215"/>
                  <a:pt x="14581" y="15998"/>
                  <a:pt x="14412" y="15825"/>
                </a:cubicBezTo>
                <a:cubicBezTo>
                  <a:pt x="14234" y="15643"/>
                  <a:pt x="13931" y="15576"/>
                  <a:pt x="13692" y="15528"/>
                </a:cubicBezTo>
                <a:cubicBezTo>
                  <a:pt x="13444" y="15478"/>
                  <a:pt x="13249" y="15515"/>
                  <a:pt x="13022" y="15627"/>
                </a:cubicBezTo>
                <a:cubicBezTo>
                  <a:pt x="12824" y="15724"/>
                  <a:pt x="12527" y="15866"/>
                  <a:pt x="12452" y="16098"/>
                </a:cubicBezTo>
                <a:cubicBezTo>
                  <a:pt x="12366" y="16363"/>
                  <a:pt x="12403" y="16671"/>
                  <a:pt x="12526" y="16917"/>
                </a:cubicBezTo>
                <a:cubicBezTo>
                  <a:pt x="12595" y="17055"/>
                  <a:pt x="12744" y="17285"/>
                  <a:pt x="12923" y="17289"/>
                </a:cubicBezTo>
                <a:cubicBezTo>
                  <a:pt x="13022" y="17291"/>
                  <a:pt x="13129" y="17239"/>
                  <a:pt x="13221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4160" y="3919680"/>
            <a:ext cx="652680" cy="598320"/>
          </a:xfrm>
          <a:custGeom>
            <a:avLst/>
            <a:gdLst/>
            <a:ahLst/>
            <a:rect l="l" t="t" r="r" b="b"/>
            <a:pathLst>
              <a:path w="1812" h="1663">
                <a:moveTo>
                  <a:pt x="6796" y="11361"/>
                </a:moveTo>
                <a:cubicBezTo>
                  <a:pt x="6719" y="11298"/>
                  <a:pt x="6545" y="11156"/>
                  <a:pt x="6449" y="11286"/>
                </a:cubicBezTo>
                <a:cubicBezTo>
                  <a:pt x="6297" y="11491"/>
                  <a:pt x="6384" y="11707"/>
                  <a:pt x="6524" y="11857"/>
                </a:cubicBezTo>
                <a:cubicBezTo>
                  <a:pt x="6687" y="11805"/>
                  <a:pt x="6855" y="11748"/>
                  <a:pt x="6821" y="11534"/>
                </a:cubicBezTo>
                <a:cubicBezTo>
                  <a:pt x="6807" y="11442"/>
                  <a:pt x="6739" y="11344"/>
                  <a:pt x="6697" y="11261"/>
                </a:cubicBezTo>
                <a:cubicBezTo>
                  <a:pt x="6745" y="11451"/>
                  <a:pt x="6781" y="11693"/>
                  <a:pt x="6896" y="11857"/>
                </a:cubicBezTo>
                <a:cubicBezTo>
                  <a:pt x="6936" y="11877"/>
                  <a:pt x="6943" y="11885"/>
                  <a:pt x="6970" y="11881"/>
                </a:cubicBezTo>
              </a:path>
              <a:path w="1812" h="1663">
                <a:moveTo>
                  <a:pt x="6226" y="12204"/>
                </a:moveTo>
                <a:cubicBezTo>
                  <a:pt x="6438" y="12355"/>
                  <a:pt x="6600" y="12440"/>
                  <a:pt x="6871" y="12427"/>
                </a:cubicBezTo>
                <a:cubicBezTo>
                  <a:pt x="7076" y="12418"/>
                  <a:pt x="7328" y="12281"/>
                  <a:pt x="7441" y="12105"/>
                </a:cubicBezTo>
                <a:cubicBezTo>
                  <a:pt x="7537" y="11954"/>
                  <a:pt x="7537" y="11669"/>
                  <a:pt x="7466" y="11509"/>
                </a:cubicBezTo>
                <a:cubicBezTo>
                  <a:pt x="7355" y="11261"/>
                  <a:pt x="7129" y="11099"/>
                  <a:pt x="6896" y="10988"/>
                </a:cubicBezTo>
                <a:cubicBezTo>
                  <a:pt x="6655" y="10873"/>
                  <a:pt x="6450" y="10861"/>
                  <a:pt x="6201" y="10964"/>
                </a:cubicBezTo>
                <a:cubicBezTo>
                  <a:pt x="5919" y="11081"/>
                  <a:pt x="5800" y="11293"/>
                  <a:pt x="5730" y="11584"/>
                </a:cubicBezTo>
                <a:cubicBezTo>
                  <a:pt x="5654" y="11898"/>
                  <a:pt x="5785" y="12162"/>
                  <a:pt x="6028" y="12353"/>
                </a:cubicBezTo>
                <a:cubicBezTo>
                  <a:pt x="6174" y="12468"/>
                  <a:pt x="6304" y="12504"/>
                  <a:pt x="6474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formula could we use to find the hypotenus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2590560" cy="266688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0" y="355428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2600" y="515448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6200" y="31734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2360" y="3867120"/>
            <a:ext cx="320760" cy="44640"/>
          </a:xfrm>
          <a:custGeom>
            <a:avLst/>
            <a:gdLst/>
            <a:ahLst/>
            <a:rect l="l" t="t" r="r" b="b"/>
            <a:pathLst>
              <a:path w="894" h="125">
                <a:moveTo>
                  <a:pt x="3200" y="10864"/>
                </a:moveTo>
                <a:cubicBezTo>
                  <a:pt x="3313" y="10864"/>
                  <a:pt x="3415" y="10862"/>
                  <a:pt x="3522" y="10840"/>
                </a:cubicBezTo>
                <a:cubicBezTo>
                  <a:pt x="3579" y="10828"/>
                  <a:pt x="3641" y="10833"/>
                  <a:pt x="3696" y="10815"/>
                </a:cubicBezTo>
                <a:cubicBezTo>
                  <a:pt x="3757" y="10795"/>
                  <a:pt x="3810" y="10807"/>
                  <a:pt x="3870" y="10790"/>
                </a:cubicBezTo>
                <a:cubicBezTo>
                  <a:pt x="3925" y="10774"/>
                  <a:pt x="3987" y="10750"/>
                  <a:pt x="4043" y="10740"/>
                </a:cubicBezTo>
                <a:cubicBezTo>
                  <a:pt x="4060" y="10740"/>
                  <a:pt x="4076" y="10740"/>
                  <a:pt x="4093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4800" y="5518080"/>
            <a:ext cx="312480" cy="27000"/>
          </a:xfrm>
          <a:custGeom>
            <a:avLst/>
            <a:gdLst/>
            <a:ahLst/>
            <a:rect l="l" t="t" r="r" b="b"/>
            <a:pathLst>
              <a:path w="869" h="76">
                <a:moveTo>
                  <a:pt x="8930" y="15329"/>
                </a:moveTo>
                <a:cubicBezTo>
                  <a:pt x="9031" y="15339"/>
                  <a:pt x="9124" y="15354"/>
                  <a:pt x="9227" y="15354"/>
                </a:cubicBezTo>
                <a:cubicBezTo>
                  <a:pt x="9350" y="15354"/>
                  <a:pt x="9460" y="15352"/>
                  <a:pt x="9575" y="15379"/>
                </a:cubicBezTo>
                <a:cubicBezTo>
                  <a:pt x="9654" y="15397"/>
                  <a:pt x="9720" y="15375"/>
                  <a:pt x="9798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3200" y="3000240"/>
            <a:ext cx="938160" cy="687600"/>
          </a:xfrm>
          <a:custGeom>
            <a:avLst/>
            <a:gdLst/>
            <a:ahLst/>
            <a:rect l="l" t="t" r="r" b="b"/>
            <a:pathLst>
              <a:path w="2606" h="1911">
                <a:moveTo>
                  <a:pt x="10592" y="10046"/>
                </a:moveTo>
                <a:cubicBezTo>
                  <a:pt x="10710" y="10090"/>
                  <a:pt x="10808" y="10105"/>
                  <a:pt x="10939" y="10120"/>
                </a:cubicBezTo>
                <a:cubicBezTo>
                  <a:pt x="11196" y="10149"/>
                  <a:pt x="11454" y="10130"/>
                  <a:pt x="11708" y="10071"/>
                </a:cubicBezTo>
                <a:cubicBezTo>
                  <a:pt x="11995" y="10004"/>
                  <a:pt x="12230" y="9918"/>
                  <a:pt x="12452" y="9723"/>
                </a:cubicBezTo>
                <a:cubicBezTo>
                  <a:pt x="12626" y="9570"/>
                  <a:pt x="12704" y="9381"/>
                  <a:pt x="12725" y="9153"/>
                </a:cubicBezTo>
                <a:cubicBezTo>
                  <a:pt x="12750" y="8875"/>
                  <a:pt x="12591" y="8621"/>
                  <a:pt x="12353" y="8483"/>
                </a:cubicBezTo>
                <a:cubicBezTo>
                  <a:pt x="12012" y="8286"/>
                  <a:pt x="11510" y="8296"/>
                  <a:pt x="11137" y="8384"/>
                </a:cubicBezTo>
                <a:cubicBezTo>
                  <a:pt x="10856" y="8450"/>
                  <a:pt x="10604" y="8568"/>
                  <a:pt x="10368" y="8731"/>
                </a:cubicBezTo>
                <a:cubicBezTo>
                  <a:pt x="10242" y="8818"/>
                  <a:pt x="10143" y="8946"/>
                  <a:pt x="10120" y="9103"/>
                </a:cubicBezTo>
                <a:cubicBezTo>
                  <a:pt x="10096" y="9262"/>
                  <a:pt x="10166" y="9476"/>
                  <a:pt x="10220" y="9624"/>
                </a:cubicBezTo>
                <a:cubicBezTo>
                  <a:pt x="10257" y="9727"/>
                  <a:pt x="10332" y="9811"/>
                  <a:pt x="10393" y="9897"/>
                </a:cubicBezTo>
                <a:cubicBezTo>
                  <a:pt x="10431" y="9952"/>
                  <a:pt x="10515" y="10057"/>
                  <a:pt x="10567" y="10096"/>
                </a:cubicBezTo>
                <a:cubicBezTo>
                  <a:pt x="10615" y="10132"/>
                  <a:pt x="10733" y="10170"/>
                  <a:pt x="10790" y="10195"/>
                </a:cubicBezTo>
                <a:cubicBezTo>
                  <a:pt x="10860" y="10226"/>
                  <a:pt x="10991" y="10251"/>
                  <a:pt x="11063" y="10244"/>
                </a:cubicBezTo>
                <a:cubicBezTo>
                  <a:pt x="11071" y="10236"/>
                  <a:pt x="11080" y="10228"/>
                  <a:pt x="11088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ythagorean Theor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+ le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= hypotenus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+ b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= 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965160" y="3517920"/>
            <a:ext cx="7545600" cy="2170080"/>
          </a:xfrm>
          <a:custGeom>
            <a:avLst/>
            <a:gdLst/>
            <a:ahLst/>
            <a:rect l="l" t="t" r="r" b="b"/>
            <a:pathLst>
              <a:path w="20961" h="6029">
                <a:moveTo>
                  <a:pt x="3200" y="12477"/>
                </a:moveTo>
                <a:cubicBezTo>
                  <a:pt x="3095" y="12332"/>
                  <a:pt x="2944" y="12141"/>
                  <a:pt x="2778" y="12378"/>
                </a:cubicBezTo>
                <a:cubicBezTo>
                  <a:pt x="2698" y="12492"/>
                  <a:pt x="2552" y="12996"/>
                  <a:pt x="2877" y="12898"/>
                </a:cubicBezTo>
                <a:cubicBezTo>
                  <a:pt x="3113" y="12827"/>
                  <a:pt x="3105" y="12677"/>
                  <a:pt x="3150" y="12477"/>
                </a:cubicBezTo>
                <a:cubicBezTo>
                  <a:pt x="3034" y="12311"/>
                  <a:pt x="3139" y="12698"/>
                  <a:pt x="3150" y="12774"/>
                </a:cubicBezTo>
                <a:cubicBezTo>
                  <a:pt x="3172" y="12881"/>
                  <a:pt x="3180" y="12905"/>
                  <a:pt x="3175" y="12973"/>
                </a:cubicBezTo>
              </a:path>
              <a:path w="20961" h="6029">
                <a:moveTo>
                  <a:pt x="3497" y="12452"/>
                </a:moveTo>
                <a:cubicBezTo>
                  <a:pt x="3555" y="12452"/>
                  <a:pt x="3613" y="12452"/>
                  <a:pt x="3671" y="12452"/>
                </a:cubicBezTo>
              </a:path>
              <a:path w="20961" h="6029">
                <a:moveTo>
                  <a:pt x="3497" y="12675"/>
                </a:moveTo>
                <a:cubicBezTo>
                  <a:pt x="3578" y="12661"/>
                  <a:pt x="3621" y="12650"/>
                  <a:pt x="3696" y="12650"/>
                </a:cubicBezTo>
              </a:path>
              <a:path w="20961" h="6029">
                <a:moveTo>
                  <a:pt x="4167" y="12328"/>
                </a:moveTo>
                <a:cubicBezTo>
                  <a:pt x="4299" y="12220"/>
                  <a:pt x="4398" y="12174"/>
                  <a:pt x="4564" y="12154"/>
                </a:cubicBezTo>
                <a:cubicBezTo>
                  <a:pt x="4532" y="12438"/>
                  <a:pt x="4381" y="12611"/>
                  <a:pt x="4192" y="12824"/>
                </a:cubicBezTo>
                <a:cubicBezTo>
                  <a:pt x="4159" y="12857"/>
                  <a:pt x="4126" y="12890"/>
                  <a:pt x="4093" y="12923"/>
                </a:cubicBezTo>
                <a:cubicBezTo>
                  <a:pt x="4254" y="12938"/>
                  <a:pt x="4443" y="12843"/>
                  <a:pt x="4614" y="12799"/>
                </a:cubicBezTo>
                <a:cubicBezTo>
                  <a:pt x="4622" y="12799"/>
                  <a:pt x="4630" y="12799"/>
                  <a:pt x="4638" y="12799"/>
                </a:cubicBezTo>
              </a:path>
              <a:path w="20961" h="6029">
                <a:moveTo>
                  <a:pt x="2753" y="13271"/>
                </a:moveTo>
                <a:cubicBezTo>
                  <a:pt x="2795" y="13570"/>
                  <a:pt x="2841" y="13862"/>
                  <a:pt x="2853" y="14163"/>
                </a:cubicBezTo>
                <a:cubicBezTo>
                  <a:pt x="2864" y="13999"/>
                  <a:pt x="2870" y="13729"/>
                  <a:pt x="3076" y="13667"/>
                </a:cubicBezTo>
                <a:cubicBezTo>
                  <a:pt x="3117" y="13675"/>
                  <a:pt x="3159" y="13684"/>
                  <a:pt x="3200" y="13692"/>
                </a:cubicBezTo>
                <a:cubicBezTo>
                  <a:pt x="3234" y="13940"/>
                  <a:pt x="3253" y="14192"/>
                  <a:pt x="2952" y="14288"/>
                </a:cubicBezTo>
                <a:cubicBezTo>
                  <a:pt x="2796" y="14338"/>
                  <a:pt x="2812" y="14262"/>
                  <a:pt x="2803" y="14163"/>
                </a:cubicBezTo>
              </a:path>
              <a:path w="20961" h="6029">
                <a:moveTo>
                  <a:pt x="3597" y="13866"/>
                </a:moveTo>
                <a:cubicBezTo>
                  <a:pt x="3691" y="13818"/>
                  <a:pt x="3743" y="13804"/>
                  <a:pt x="3845" y="13791"/>
                </a:cubicBezTo>
              </a:path>
              <a:path w="20961" h="6029">
                <a:moveTo>
                  <a:pt x="3671" y="13990"/>
                </a:moveTo>
                <a:cubicBezTo>
                  <a:pt x="3753" y="13965"/>
                  <a:pt x="3852" y="13955"/>
                  <a:pt x="3919" y="13915"/>
                </a:cubicBezTo>
              </a:path>
              <a:path w="20961" h="6029">
                <a:moveTo>
                  <a:pt x="4490" y="13568"/>
                </a:moveTo>
                <a:cubicBezTo>
                  <a:pt x="4587" y="13554"/>
                  <a:pt x="4691" y="13479"/>
                  <a:pt x="4762" y="13568"/>
                </a:cubicBezTo>
                <a:cubicBezTo>
                  <a:pt x="4886" y="13723"/>
                  <a:pt x="4706" y="13820"/>
                  <a:pt x="4589" y="13891"/>
                </a:cubicBezTo>
                <a:cubicBezTo>
                  <a:pt x="4695" y="13878"/>
                  <a:pt x="4928" y="13871"/>
                  <a:pt x="4812" y="14064"/>
                </a:cubicBezTo>
                <a:cubicBezTo>
                  <a:pt x="4741" y="14183"/>
                  <a:pt x="4635" y="14193"/>
                  <a:pt x="4514" y="14213"/>
                </a:cubicBezTo>
              </a:path>
              <a:path w="20961" h="6029">
                <a:moveTo>
                  <a:pt x="3051" y="15081"/>
                </a:moveTo>
                <a:cubicBezTo>
                  <a:pt x="3059" y="15098"/>
                  <a:pt x="3068" y="15114"/>
                  <a:pt x="3076" y="15131"/>
                </a:cubicBezTo>
                <a:cubicBezTo>
                  <a:pt x="2943" y="14908"/>
                  <a:pt x="2837" y="15191"/>
                  <a:pt x="2803" y="15354"/>
                </a:cubicBezTo>
                <a:cubicBezTo>
                  <a:pt x="2723" y="15736"/>
                  <a:pt x="2886" y="15868"/>
                  <a:pt x="3225" y="15726"/>
                </a:cubicBezTo>
                <a:cubicBezTo>
                  <a:pt x="3266" y="15701"/>
                  <a:pt x="3308" y="15677"/>
                  <a:pt x="3349" y="15652"/>
                </a:cubicBezTo>
              </a:path>
              <a:path w="20961" h="6029">
                <a:moveTo>
                  <a:pt x="3746" y="15329"/>
                </a:moveTo>
                <a:cubicBezTo>
                  <a:pt x="3837" y="15314"/>
                  <a:pt x="3904" y="15304"/>
                  <a:pt x="3994" y="15304"/>
                </a:cubicBezTo>
              </a:path>
              <a:path w="20961" h="6029">
                <a:moveTo>
                  <a:pt x="3721" y="15602"/>
                </a:moveTo>
                <a:cubicBezTo>
                  <a:pt x="3818" y="15582"/>
                  <a:pt x="3903" y="15564"/>
                  <a:pt x="3994" y="15528"/>
                </a:cubicBezTo>
              </a:path>
              <a:path w="20961" h="6029">
                <a:moveTo>
                  <a:pt x="8260" y="11782"/>
                </a:moveTo>
                <a:cubicBezTo>
                  <a:pt x="8267" y="11899"/>
                  <a:pt x="8278" y="12012"/>
                  <a:pt x="8285" y="12129"/>
                </a:cubicBezTo>
              </a:path>
              <a:path w="20961" h="6029">
                <a:moveTo>
                  <a:pt x="8161" y="12005"/>
                </a:moveTo>
                <a:cubicBezTo>
                  <a:pt x="8311" y="11999"/>
                  <a:pt x="8458" y="11988"/>
                  <a:pt x="8607" y="11981"/>
                </a:cubicBezTo>
              </a:path>
              <a:path w="20961" h="6029">
                <a:moveTo>
                  <a:pt x="8979" y="13122"/>
                </a:moveTo>
                <a:cubicBezTo>
                  <a:pt x="9112" y="13100"/>
                  <a:pt x="9146" y="13095"/>
                  <a:pt x="9227" y="13072"/>
                </a:cubicBezTo>
              </a:path>
              <a:path w="20961" h="6029">
                <a:moveTo>
                  <a:pt x="9847" y="14139"/>
                </a:moveTo>
                <a:cubicBezTo>
                  <a:pt x="9766" y="14320"/>
                  <a:pt x="9702" y="14487"/>
                  <a:pt x="9674" y="14684"/>
                </a:cubicBezTo>
              </a:path>
              <a:path w="20961" h="6029">
                <a:moveTo>
                  <a:pt x="18331" y="11460"/>
                </a:moveTo>
                <a:cubicBezTo>
                  <a:pt x="18353" y="11437"/>
                  <a:pt x="18358" y="11429"/>
                  <a:pt x="18380" y="11435"/>
                </a:cubicBezTo>
              </a:path>
              <a:path w="20961" h="6029">
                <a:moveTo>
                  <a:pt x="21580" y="9897"/>
                </a:moveTo>
                <a:cubicBezTo>
                  <a:pt x="21721" y="9846"/>
                  <a:pt x="21856" y="9806"/>
                  <a:pt x="22002" y="9773"/>
                </a:cubicBezTo>
              </a:path>
              <a:path w="20961" h="6029">
                <a:moveTo>
                  <a:pt x="23440" y="9872"/>
                </a:moveTo>
                <a:cubicBezTo>
                  <a:pt x="23498" y="9864"/>
                  <a:pt x="23556" y="9855"/>
                  <a:pt x="23614" y="9847"/>
                </a:cubicBezTo>
              </a:path>
              <a:path w="20961" h="6029">
                <a:moveTo>
                  <a:pt x="20762" y="10815"/>
                </a:moveTo>
                <a:cubicBezTo>
                  <a:pt x="20773" y="11081"/>
                  <a:pt x="20799" y="11345"/>
                  <a:pt x="20836" y="11609"/>
                </a:cubicBezTo>
              </a:path>
              <a:path w="20961" h="6029">
                <a:moveTo>
                  <a:pt x="23316" y="10939"/>
                </a:moveTo>
                <a:cubicBezTo>
                  <a:pt x="23424" y="10894"/>
                  <a:pt x="23526" y="10867"/>
                  <a:pt x="23639" y="10840"/>
                </a:cubicBezTo>
              </a:path>
              <a:path w="20961" h="6029">
                <a:moveTo>
                  <a:pt x="23316" y="11112"/>
                </a:moveTo>
                <a:cubicBezTo>
                  <a:pt x="23382" y="11104"/>
                  <a:pt x="23449" y="11096"/>
                  <a:pt x="23515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0200" y="3983040"/>
            <a:ext cx="1571760" cy="1285920"/>
          </a:xfrm>
          <a:custGeom>
            <a:avLst/>
            <a:gdLst/>
            <a:ahLst/>
            <a:rect l="l" t="t" r="r" b="b"/>
            <a:pathLst>
              <a:path w="4367" h="3573">
                <a:moveTo>
                  <a:pt x="7020" y="11782"/>
                </a:moveTo>
                <a:cubicBezTo>
                  <a:pt x="7114" y="11765"/>
                  <a:pt x="7197" y="11744"/>
                  <a:pt x="7293" y="11733"/>
                </a:cubicBezTo>
                <a:cubicBezTo>
                  <a:pt x="7307" y="11962"/>
                  <a:pt x="7171" y="12101"/>
                  <a:pt x="6995" y="12254"/>
                </a:cubicBezTo>
                <a:cubicBezTo>
                  <a:pt x="6978" y="12262"/>
                  <a:pt x="6962" y="12270"/>
                  <a:pt x="6945" y="12278"/>
                </a:cubicBezTo>
                <a:cubicBezTo>
                  <a:pt x="7104" y="12254"/>
                  <a:pt x="7241" y="12184"/>
                  <a:pt x="7392" y="12154"/>
                </a:cubicBezTo>
              </a:path>
              <a:path w="4367" h="3573">
                <a:moveTo>
                  <a:pt x="7615" y="11311"/>
                </a:moveTo>
                <a:cubicBezTo>
                  <a:pt x="7701" y="11302"/>
                  <a:pt x="7754" y="11298"/>
                  <a:pt x="7838" y="11311"/>
                </a:cubicBezTo>
                <a:cubicBezTo>
                  <a:pt x="7763" y="11461"/>
                  <a:pt x="7665" y="11545"/>
                  <a:pt x="7541" y="11658"/>
                </a:cubicBezTo>
                <a:cubicBezTo>
                  <a:pt x="7660" y="11647"/>
                  <a:pt x="7728" y="11631"/>
                  <a:pt x="7838" y="11609"/>
                </a:cubicBezTo>
              </a:path>
              <a:path w="4367" h="3573">
                <a:moveTo>
                  <a:pt x="9004" y="11782"/>
                </a:moveTo>
                <a:cubicBezTo>
                  <a:pt x="9097" y="11733"/>
                  <a:pt x="9147" y="11716"/>
                  <a:pt x="9252" y="11708"/>
                </a:cubicBezTo>
                <a:cubicBezTo>
                  <a:pt x="9291" y="11863"/>
                  <a:pt x="9191" y="11902"/>
                  <a:pt x="9079" y="12005"/>
                </a:cubicBezTo>
                <a:cubicBezTo>
                  <a:pt x="9211" y="11984"/>
                  <a:pt x="9334" y="12036"/>
                  <a:pt x="9178" y="12179"/>
                </a:cubicBezTo>
                <a:cubicBezTo>
                  <a:pt x="9079" y="12270"/>
                  <a:pt x="9011" y="12269"/>
                  <a:pt x="8905" y="12229"/>
                </a:cubicBezTo>
              </a:path>
              <a:path w="4367" h="3573">
                <a:moveTo>
                  <a:pt x="9475" y="11311"/>
                </a:moveTo>
                <a:cubicBezTo>
                  <a:pt x="9563" y="11246"/>
                  <a:pt x="9581" y="11226"/>
                  <a:pt x="9649" y="11212"/>
                </a:cubicBezTo>
                <a:cubicBezTo>
                  <a:pt x="9598" y="11358"/>
                  <a:pt x="9558" y="11455"/>
                  <a:pt x="9475" y="11584"/>
                </a:cubicBezTo>
                <a:cubicBezTo>
                  <a:pt x="9577" y="11567"/>
                  <a:pt x="9674" y="11520"/>
                  <a:pt x="9773" y="11485"/>
                </a:cubicBezTo>
              </a:path>
              <a:path w="4367" h="3573">
                <a:moveTo>
                  <a:pt x="9823" y="11832"/>
                </a:moveTo>
                <a:cubicBezTo>
                  <a:pt x="9930" y="11832"/>
                  <a:pt x="10038" y="11832"/>
                  <a:pt x="10145" y="11832"/>
                </a:cubicBezTo>
              </a:path>
              <a:path w="4367" h="3573">
                <a:moveTo>
                  <a:pt x="9748" y="12080"/>
                </a:moveTo>
                <a:cubicBezTo>
                  <a:pt x="9875" y="12062"/>
                  <a:pt x="9991" y="12055"/>
                  <a:pt x="10120" y="12055"/>
                </a:cubicBezTo>
              </a:path>
              <a:path w="4367" h="3573">
                <a:moveTo>
                  <a:pt x="10740" y="11832"/>
                </a:moveTo>
                <a:cubicBezTo>
                  <a:pt x="10748" y="11840"/>
                  <a:pt x="10757" y="11849"/>
                  <a:pt x="10765" y="11857"/>
                </a:cubicBezTo>
                <a:cubicBezTo>
                  <a:pt x="10742" y="11674"/>
                  <a:pt x="10608" y="11764"/>
                  <a:pt x="10517" y="11881"/>
                </a:cubicBezTo>
                <a:cubicBezTo>
                  <a:pt x="10299" y="12161"/>
                  <a:pt x="10480" y="12285"/>
                  <a:pt x="10765" y="12179"/>
                </a:cubicBezTo>
                <a:cubicBezTo>
                  <a:pt x="10806" y="12154"/>
                  <a:pt x="10848" y="12130"/>
                  <a:pt x="10889" y="12105"/>
                </a:cubicBezTo>
              </a:path>
              <a:path w="4367" h="3573">
                <a:moveTo>
                  <a:pt x="11088" y="11088"/>
                </a:moveTo>
                <a:cubicBezTo>
                  <a:pt x="11156" y="11078"/>
                  <a:pt x="11218" y="11068"/>
                  <a:pt x="11286" y="11063"/>
                </a:cubicBezTo>
                <a:cubicBezTo>
                  <a:pt x="11262" y="11118"/>
                  <a:pt x="11073" y="11373"/>
                  <a:pt x="11088" y="11410"/>
                </a:cubicBezTo>
                <a:cubicBezTo>
                  <a:pt x="11179" y="11410"/>
                  <a:pt x="11237" y="11404"/>
                  <a:pt x="11311" y="11385"/>
                </a:cubicBezTo>
              </a:path>
              <a:path w="4367" h="3573">
                <a:moveTo>
                  <a:pt x="7119" y="12874"/>
                </a:moveTo>
                <a:cubicBezTo>
                  <a:pt x="7078" y="12969"/>
                  <a:pt x="7035" y="13042"/>
                  <a:pt x="6970" y="13122"/>
                </a:cubicBezTo>
                <a:cubicBezTo>
                  <a:pt x="7097" y="13130"/>
                  <a:pt x="7208" y="13100"/>
                  <a:pt x="7342" y="13072"/>
                </a:cubicBezTo>
              </a:path>
              <a:path w="4367" h="3573">
                <a:moveTo>
                  <a:pt x="7417" y="12675"/>
                </a:moveTo>
                <a:cubicBezTo>
                  <a:pt x="7351" y="12900"/>
                  <a:pt x="7295" y="13139"/>
                  <a:pt x="7243" y="13370"/>
                </a:cubicBezTo>
                <a:cubicBezTo>
                  <a:pt x="7222" y="13466"/>
                  <a:pt x="7217" y="13483"/>
                  <a:pt x="7293" y="13395"/>
                </a:cubicBezTo>
              </a:path>
              <a:path w="4367" h="3573">
                <a:moveTo>
                  <a:pt x="7913" y="12824"/>
                </a:moveTo>
                <a:cubicBezTo>
                  <a:pt x="7878" y="12980"/>
                  <a:pt x="7844" y="13139"/>
                  <a:pt x="7813" y="13295"/>
                </a:cubicBezTo>
                <a:cubicBezTo>
                  <a:pt x="7813" y="13303"/>
                  <a:pt x="7813" y="13312"/>
                  <a:pt x="7813" y="13320"/>
                </a:cubicBezTo>
              </a:path>
              <a:path w="4367" h="3573">
                <a:moveTo>
                  <a:pt x="7665" y="13097"/>
                </a:moveTo>
                <a:cubicBezTo>
                  <a:pt x="7779" y="13059"/>
                  <a:pt x="7907" y="13049"/>
                  <a:pt x="8012" y="12998"/>
                </a:cubicBezTo>
              </a:path>
              <a:path w="4367" h="3573">
                <a:moveTo>
                  <a:pt x="8582" y="12998"/>
                </a:moveTo>
                <a:cubicBezTo>
                  <a:pt x="8657" y="12849"/>
                  <a:pt x="8622" y="12748"/>
                  <a:pt x="8558" y="12601"/>
                </a:cubicBezTo>
                <a:cubicBezTo>
                  <a:pt x="8426" y="12676"/>
                  <a:pt x="8167" y="12876"/>
                  <a:pt x="8260" y="13072"/>
                </a:cubicBezTo>
                <a:cubicBezTo>
                  <a:pt x="8320" y="13198"/>
                  <a:pt x="8587" y="12831"/>
                  <a:pt x="8607" y="12799"/>
                </a:cubicBezTo>
                <a:cubicBezTo>
                  <a:pt x="8569" y="13014"/>
                  <a:pt x="8520" y="13226"/>
                  <a:pt x="8508" y="13444"/>
                </a:cubicBezTo>
                <a:cubicBezTo>
                  <a:pt x="8508" y="13452"/>
                  <a:pt x="8508" y="13461"/>
                  <a:pt x="8508" y="13469"/>
                </a:cubicBezTo>
              </a:path>
              <a:path w="4367" h="3573">
                <a:moveTo>
                  <a:pt x="9004" y="12948"/>
                </a:moveTo>
                <a:cubicBezTo>
                  <a:pt x="9094" y="12948"/>
                  <a:pt x="9165" y="12943"/>
                  <a:pt x="9252" y="12923"/>
                </a:cubicBezTo>
              </a:path>
              <a:path w="4367" h="3573">
                <a:moveTo>
                  <a:pt x="9897" y="12824"/>
                </a:moveTo>
                <a:cubicBezTo>
                  <a:pt x="9823" y="13017"/>
                  <a:pt x="9761" y="13216"/>
                  <a:pt x="9723" y="13419"/>
                </a:cubicBezTo>
                <a:cubicBezTo>
                  <a:pt x="9723" y="13444"/>
                  <a:pt x="9723" y="13452"/>
                  <a:pt x="9723" y="13419"/>
                </a:cubicBezTo>
              </a:path>
              <a:path w="4367" h="3573">
                <a:moveTo>
                  <a:pt x="10145" y="12874"/>
                </a:moveTo>
                <a:cubicBezTo>
                  <a:pt x="10236" y="12818"/>
                  <a:pt x="10290" y="12790"/>
                  <a:pt x="10393" y="12774"/>
                </a:cubicBezTo>
                <a:cubicBezTo>
                  <a:pt x="10377" y="12932"/>
                  <a:pt x="10318" y="12976"/>
                  <a:pt x="10195" y="13072"/>
                </a:cubicBezTo>
                <a:cubicBezTo>
                  <a:pt x="10313" y="13008"/>
                  <a:pt x="10468" y="12943"/>
                  <a:pt x="10418" y="13171"/>
                </a:cubicBezTo>
                <a:cubicBezTo>
                  <a:pt x="10385" y="13322"/>
                  <a:pt x="10237" y="13343"/>
                  <a:pt x="10120" y="13320"/>
                </a:cubicBezTo>
              </a:path>
              <a:path w="4367" h="3573">
                <a:moveTo>
                  <a:pt x="9277" y="14412"/>
                </a:moveTo>
                <a:cubicBezTo>
                  <a:pt x="9300" y="14528"/>
                  <a:pt x="9307" y="14561"/>
                  <a:pt x="9327" y="14635"/>
                </a:cubicBezTo>
                <a:cubicBezTo>
                  <a:pt x="9405" y="14392"/>
                  <a:pt x="9451" y="14197"/>
                  <a:pt x="9451" y="13940"/>
                </a:cubicBezTo>
                <a:cubicBezTo>
                  <a:pt x="9723" y="13881"/>
                  <a:pt x="10036" y="13915"/>
                  <a:pt x="10319" y="13915"/>
                </a:cubicBezTo>
                <a:cubicBezTo>
                  <a:pt x="10435" y="13915"/>
                  <a:pt x="10550" y="13915"/>
                  <a:pt x="10666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48680" y="3232080"/>
            <a:ext cx="1590480" cy="723960"/>
          </a:xfrm>
          <a:custGeom>
            <a:avLst/>
            <a:gdLst/>
            <a:ahLst/>
            <a:rect l="l" t="t" r="r" b="b"/>
            <a:pathLst>
              <a:path w="4416" h="2010">
                <a:moveTo>
                  <a:pt x="20861" y="10021"/>
                </a:moveTo>
                <a:cubicBezTo>
                  <a:pt x="20812" y="9924"/>
                  <a:pt x="20796" y="9892"/>
                  <a:pt x="20737" y="9847"/>
                </a:cubicBezTo>
                <a:cubicBezTo>
                  <a:pt x="20627" y="9896"/>
                  <a:pt x="20228" y="10228"/>
                  <a:pt x="20439" y="10418"/>
                </a:cubicBezTo>
                <a:cubicBezTo>
                  <a:pt x="20597" y="10560"/>
                  <a:pt x="20770" y="10019"/>
                  <a:pt x="20786" y="9971"/>
                </a:cubicBezTo>
                <a:cubicBezTo>
                  <a:pt x="20786" y="9946"/>
                  <a:pt x="20786" y="9922"/>
                  <a:pt x="20786" y="9897"/>
                </a:cubicBezTo>
                <a:cubicBezTo>
                  <a:pt x="20758" y="10072"/>
                  <a:pt x="20782" y="10182"/>
                  <a:pt x="20861" y="10344"/>
                </a:cubicBezTo>
                <a:cubicBezTo>
                  <a:pt x="20869" y="10352"/>
                  <a:pt x="20878" y="10360"/>
                  <a:pt x="20886" y="10368"/>
                </a:cubicBezTo>
              </a:path>
              <a:path w="4416" h="2010">
                <a:moveTo>
                  <a:pt x="20960" y="9128"/>
                </a:moveTo>
                <a:cubicBezTo>
                  <a:pt x="21045" y="9117"/>
                  <a:pt x="21123" y="9108"/>
                  <a:pt x="21208" y="9103"/>
                </a:cubicBezTo>
                <a:cubicBezTo>
                  <a:pt x="21193" y="9178"/>
                  <a:pt x="20995" y="9511"/>
                  <a:pt x="21010" y="9550"/>
                </a:cubicBezTo>
                <a:cubicBezTo>
                  <a:pt x="21112" y="9550"/>
                  <a:pt x="21163" y="9541"/>
                  <a:pt x="21233" y="9500"/>
                </a:cubicBezTo>
              </a:path>
              <a:path w="4416" h="2010">
                <a:moveTo>
                  <a:pt x="21679" y="9500"/>
                </a:moveTo>
                <a:cubicBezTo>
                  <a:pt x="21707" y="9709"/>
                  <a:pt x="21761" y="9910"/>
                  <a:pt x="21779" y="10120"/>
                </a:cubicBezTo>
              </a:path>
              <a:path w="4416" h="2010">
                <a:moveTo>
                  <a:pt x="22101" y="9500"/>
                </a:moveTo>
                <a:cubicBezTo>
                  <a:pt x="22153" y="9731"/>
                  <a:pt x="22205" y="9962"/>
                  <a:pt x="22250" y="10195"/>
                </a:cubicBezTo>
                <a:cubicBezTo>
                  <a:pt x="22254" y="10166"/>
                  <a:pt x="22323" y="9544"/>
                  <a:pt x="22498" y="9748"/>
                </a:cubicBezTo>
                <a:cubicBezTo>
                  <a:pt x="22675" y="9955"/>
                  <a:pt x="22517" y="10241"/>
                  <a:pt x="22275" y="10269"/>
                </a:cubicBezTo>
                <a:cubicBezTo>
                  <a:pt x="22242" y="10261"/>
                  <a:pt x="22208" y="10252"/>
                  <a:pt x="22175" y="10244"/>
                </a:cubicBezTo>
              </a:path>
              <a:path w="4416" h="2010">
                <a:moveTo>
                  <a:pt x="22746" y="9252"/>
                </a:moveTo>
                <a:cubicBezTo>
                  <a:pt x="22938" y="9228"/>
                  <a:pt x="23007" y="9238"/>
                  <a:pt x="22870" y="9451"/>
                </a:cubicBezTo>
                <a:cubicBezTo>
                  <a:pt x="22736" y="9660"/>
                  <a:pt x="22771" y="9602"/>
                  <a:pt x="22969" y="9525"/>
                </a:cubicBezTo>
              </a:path>
              <a:path w="4416" h="2010">
                <a:moveTo>
                  <a:pt x="23316" y="9649"/>
                </a:moveTo>
                <a:cubicBezTo>
                  <a:pt x="23436" y="9631"/>
                  <a:pt x="23542" y="9624"/>
                  <a:pt x="23664" y="9624"/>
                </a:cubicBezTo>
              </a:path>
              <a:path w="4416" h="2010">
                <a:moveTo>
                  <a:pt x="24259" y="9550"/>
                </a:moveTo>
                <a:cubicBezTo>
                  <a:pt x="24204" y="9642"/>
                  <a:pt x="24233" y="9572"/>
                  <a:pt x="24110" y="9500"/>
                </a:cubicBezTo>
                <a:cubicBezTo>
                  <a:pt x="24023" y="9709"/>
                  <a:pt x="23832" y="10160"/>
                  <a:pt x="24259" y="10145"/>
                </a:cubicBezTo>
                <a:cubicBezTo>
                  <a:pt x="24309" y="10120"/>
                  <a:pt x="24358" y="10096"/>
                  <a:pt x="24408" y="10071"/>
                </a:cubicBezTo>
              </a:path>
              <a:path w="4416" h="2010">
                <a:moveTo>
                  <a:pt x="24358" y="9004"/>
                </a:moveTo>
                <a:cubicBezTo>
                  <a:pt x="24540" y="8962"/>
                  <a:pt x="24570" y="8986"/>
                  <a:pt x="24482" y="9153"/>
                </a:cubicBezTo>
                <a:cubicBezTo>
                  <a:pt x="24415" y="9280"/>
                  <a:pt x="24756" y="9165"/>
                  <a:pt x="24829" y="9153"/>
                </a:cubicBezTo>
              </a:path>
              <a:path w="4416" h="2010">
                <a:moveTo>
                  <a:pt x="21034" y="10641"/>
                </a:moveTo>
                <a:cubicBezTo>
                  <a:pt x="21067" y="10641"/>
                  <a:pt x="21101" y="10641"/>
                  <a:pt x="21134" y="10641"/>
                </a:cubicBezTo>
                <a:cubicBezTo>
                  <a:pt x="21117" y="10786"/>
                  <a:pt x="21050" y="10867"/>
                  <a:pt x="21010" y="10988"/>
                </a:cubicBezTo>
                <a:cubicBezTo>
                  <a:pt x="21119" y="10962"/>
                  <a:pt x="21162" y="10950"/>
                  <a:pt x="21233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60840" y="507204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0170" y="14139"/>
                </a:moveTo>
                <a:cubicBezTo>
                  <a:pt x="10244" y="14117"/>
                  <a:pt x="10482" y="14006"/>
                  <a:pt x="10468" y="14188"/>
                </a:cubicBezTo>
                <a:cubicBezTo>
                  <a:pt x="10461" y="14288"/>
                  <a:pt x="10289" y="14348"/>
                  <a:pt x="10220" y="14387"/>
                </a:cubicBezTo>
                <a:cubicBezTo>
                  <a:pt x="10407" y="14346"/>
                  <a:pt x="10407" y="14314"/>
                  <a:pt x="10542" y="14436"/>
                </a:cubicBezTo>
                <a:cubicBezTo>
                  <a:pt x="10437" y="14645"/>
                  <a:pt x="10406" y="14695"/>
                  <a:pt x="10170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95800" y="5438880"/>
            <a:ext cx="106200" cy="25848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9277" y="15280"/>
                </a:moveTo>
                <a:cubicBezTo>
                  <a:pt x="9309" y="15216"/>
                  <a:pt x="9370" y="15161"/>
                  <a:pt x="9426" y="15106"/>
                </a:cubicBezTo>
                <a:cubicBezTo>
                  <a:pt x="9438" y="15308"/>
                  <a:pt x="9381" y="15370"/>
                  <a:pt x="9227" y="15503"/>
                </a:cubicBezTo>
                <a:cubicBezTo>
                  <a:pt x="9342" y="15401"/>
                  <a:pt x="9471" y="15417"/>
                  <a:pt x="9426" y="15627"/>
                </a:cubicBezTo>
                <a:cubicBezTo>
                  <a:pt x="9394" y="15776"/>
                  <a:pt x="9282" y="15813"/>
                  <a:pt x="9153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43160" y="3973680"/>
            <a:ext cx="4803840" cy="2098440"/>
          </a:xfrm>
          <a:custGeom>
            <a:avLst/>
            <a:gdLst/>
            <a:ahLst/>
            <a:rect l="l" t="t" r="r" b="b"/>
            <a:pathLst>
              <a:path w="13346" h="5830">
                <a:moveTo>
                  <a:pt x="8855" y="15354"/>
                </a:moveTo>
                <a:cubicBezTo>
                  <a:pt x="8954" y="15334"/>
                  <a:pt x="8970" y="15326"/>
                  <a:pt x="9029" y="15329"/>
                </a:cubicBezTo>
              </a:path>
              <a:path w="13346" h="5830">
                <a:moveTo>
                  <a:pt x="8731" y="15577"/>
                </a:moveTo>
                <a:cubicBezTo>
                  <a:pt x="8816" y="15559"/>
                  <a:pt x="8898" y="15551"/>
                  <a:pt x="8979" y="15528"/>
                </a:cubicBezTo>
              </a:path>
              <a:path w="13346" h="5830">
                <a:moveTo>
                  <a:pt x="9649" y="15677"/>
                </a:moveTo>
                <a:cubicBezTo>
                  <a:pt x="9657" y="15693"/>
                  <a:pt x="9666" y="15710"/>
                  <a:pt x="9674" y="15726"/>
                </a:cubicBezTo>
              </a:path>
              <a:path w="13346" h="5830">
                <a:moveTo>
                  <a:pt x="8930" y="16694"/>
                </a:moveTo>
                <a:cubicBezTo>
                  <a:pt x="9037" y="16667"/>
                  <a:pt x="9078" y="16657"/>
                  <a:pt x="9153" y="16644"/>
                </a:cubicBezTo>
              </a:path>
              <a:path w="13346" h="5830">
                <a:moveTo>
                  <a:pt x="10096" y="16818"/>
                </a:moveTo>
                <a:cubicBezTo>
                  <a:pt x="10096" y="16834"/>
                  <a:pt x="10096" y="16851"/>
                  <a:pt x="10096" y="16867"/>
                </a:cubicBezTo>
              </a:path>
              <a:path w="13346" h="5830">
                <a:moveTo>
                  <a:pt x="17512" y="13047"/>
                </a:moveTo>
                <a:cubicBezTo>
                  <a:pt x="17594" y="13026"/>
                  <a:pt x="17610" y="13018"/>
                  <a:pt x="17661" y="13022"/>
                </a:cubicBezTo>
              </a:path>
              <a:path w="13346" h="5830">
                <a:moveTo>
                  <a:pt x="17487" y="13246"/>
                </a:moveTo>
                <a:cubicBezTo>
                  <a:pt x="17537" y="13229"/>
                  <a:pt x="17586" y="13213"/>
                  <a:pt x="17636" y="13196"/>
                </a:cubicBezTo>
              </a:path>
              <a:path w="13346" h="5830">
                <a:moveTo>
                  <a:pt x="21679" y="11038"/>
                </a:moveTo>
                <a:cubicBezTo>
                  <a:pt x="21725" y="11177"/>
                  <a:pt x="21742" y="11215"/>
                  <a:pt x="21729" y="11311"/>
                </a:cubicBezTo>
              </a:path>
              <a:path w="13346" h="5830">
                <a:moveTo>
                  <a:pt x="21605" y="11237"/>
                </a:moveTo>
                <a:cubicBezTo>
                  <a:pt x="21762" y="11178"/>
                  <a:pt x="21918" y="11119"/>
                  <a:pt x="22076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57680" y="5392800"/>
            <a:ext cx="1179360" cy="723960"/>
          </a:xfrm>
          <a:custGeom>
            <a:avLst/>
            <a:gdLst/>
            <a:ahLst/>
            <a:rect l="l" t="t" r="r" b="b"/>
            <a:pathLst>
              <a:path w="3275" h="2010">
                <a:moveTo>
                  <a:pt x="8334" y="15205"/>
                </a:moveTo>
                <a:cubicBezTo>
                  <a:pt x="8334" y="15320"/>
                  <a:pt x="8287" y="15224"/>
                  <a:pt x="8186" y="15180"/>
                </a:cubicBezTo>
                <a:cubicBezTo>
                  <a:pt x="8093" y="15311"/>
                  <a:pt x="7759" y="15697"/>
                  <a:pt x="8012" y="15850"/>
                </a:cubicBezTo>
                <a:cubicBezTo>
                  <a:pt x="8122" y="15917"/>
                  <a:pt x="8313" y="15794"/>
                  <a:pt x="8409" y="15751"/>
                </a:cubicBezTo>
              </a:path>
              <a:path w="3275" h="2010">
                <a:moveTo>
                  <a:pt x="9897" y="15156"/>
                </a:moveTo>
                <a:cubicBezTo>
                  <a:pt x="9865" y="15320"/>
                  <a:pt x="9803" y="15509"/>
                  <a:pt x="9823" y="15677"/>
                </a:cubicBezTo>
                <a:cubicBezTo>
                  <a:pt x="9842" y="15836"/>
                  <a:pt x="10003" y="15774"/>
                  <a:pt x="10096" y="15726"/>
                </a:cubicBezTo>
                <a:cubicBezTo>
                  <a:pt x="10193" y="15676"/>
                  <a:pt x="10237" y="15624"/>
                  <a:pt x="10195" y="15528"/>
                </a:cubicBezTo>
                <a:cubicBezTo>
                  <a:pt x="10100" y="15580"/>
                  <a:pt x="10033" y="15633"/>
                  <a:pt x="10021" y="15751"/>
                </a:cubicBezTo>
                <a:cubicBezTo>
                  <a:pt x="10021" y="15768"/>
                  <a:pt x="10021" y="15784"/>
                  <a:pt x="10021" y="15801"/>
                </a:cubicBezTo>
              </a:path>
              <a:path w="3275" h="2010">
                <a:moveTo>
                  <a:pt x="10468" y="15230"/>
                </a:moveTo>
                <a:cubicBezTo>
                  <a:pt x="10398" y="15415"/>
                  <a:pt x="10347" y="15532"/>
                  <a:pt x="10368" y="15726"/>
                </a:cubicBezTo>
                <a:cubicBezTo>
                  <a:pt x="10554" y="15743"/>
                  <a:pt x="10637" y="15656"/>
                  <a:pt x="10641" y="15453"/>
                </a:cubicBezTo>
                <a:cubicBezTo>
                  <a:pt x="10643" y="15342"/>
                  <a:pt x="10569" y="15306"/>
                  <a:pt x="10492" y="15255"/>
                </a:cubicBezTo>
              </a:path>
              <a:path w="3275" h="2010">
                <a:moveTo>
                  <a:pt x="10988" y="15131"/>
                </a:moveTo>
                <a:cubicBezTo>
                  <a:pt x="10912" y="15162"/>
                  <a:pt x="10763" y="15185"/>
                  <a:pt x="10790" y="15304"/>
                </a:cubicBezTo>
                <a:cubicBezTo>
                  <a:pt x="10809" y="15391"/>
                  <a:pt x="10977" y="15382"/>
                  <a:pt x="10988" y="15478"/>
                </a:cubicBezTo>
                <a:cubicBezTo>
                  <a:pt x="11003" y="15611"/>
                  <a:pt x="10827" y="15700"/>
                  <a:pt x="10716" y="15652"/>
                </a:cubicBezTo>
                <a:cubicBezTo>
                  <a:pt x="10708" y="15635"/>
                  <a:pt x="10699" y="15619"/>
                  <a:pt x="10691" y="15602"/>
                </a:cubicBezTo>
              </a:path>
              <a:path w="3275" h="2010">
                <a:moveTo>
                  <a:pt x="10889" y="15081"/>
                </a:moveTo>
                <a:cubicBezTo>
                  <a:pt x="10997" y="15039"/>
                  <a:pt x="11099" y="15012"/>
                  <a:pt x="11212" y="14982"/>
                </a:cubicBezTo>
              </a:path>
              <a:path w="3275" h="2010">
                <a:moveTo>
                  <a:pt x="8781" y="16346"/>
                </a:moveTo>
                <a:cubicBezTo>
                  <a:pt x="8583" y="16281"/>
                  <a:pt x="8564" y="16338"/>
                  <a:pt x="8458" y="16570"/>
                </a:cubicBezTo>
                <a:cubicBezTo>
                  <a:pt x="8334" y="16841"/>
                  <a:pt x="8394" y="17042"/>
                  <a:pt x="8706" y="16917"/>
                </a:cubicBezTo>
                <a:cubicBezTo>
                  <a:pt x="8747" y="16892"/>
                  <a:pt x="8789" y="16867"/>
                  <a:pt x="8830" y="16842"/>
                </a:cubicBezTo>
              </a:path>
              <a:path w="3275" h="2010">
                <a:moveTo>
                  <a:pt x="8954" y="16495"/>
                </a:moveTo>
                <a:cubicBezTo>
                  <a:pt x="9076" y="16471"/>
                  <a:pt x="9159" y="16454"/>
                  <a:pt x="9277" y="16470"/>
                </a:cubicBezTo>
              </a:path>
              <a:path w="3275" h="2010">
                <a:moveTo>
                  <a:pt x="9649" y="16446"/>
                </a:moveTo>
                <a:cubicBezTo>
                  <a:pt x="9737" y="16412"/>
                  <a:pt x="9807" y="16385"/>
                  <a:pt x="9897" y="16371"/>
                </a:cubicBezTo>
                <a:cubicBezTo>
                  <a:pt x="9912" y="16575"/>
                  <a:pt x="9823" y="16616"/>
                  <a:pt x="9649" y="16718"/>
                </a:cubicBezTo>
                <a:cubicBezTo>
                  <a:pt x="9750" y="16689"/>
                  <a:pt x="9923" y="16679"/>
                  <a:pt x="9847" y="16842"/>
                </a:cubicBezTo>
                <a:cubicBezTo>
                  <a:pt x="9786" y="16974"/>
                  <a:pt x="9669" y="17017"/>
                  <a:pt x="9550" y="16966"/>
                </a:cubicBezTo>
              </a:path>
              <a:path w="3275" h="2010">
                <a:moveTo>
                  <a:pt x="10517" y="16297"/>
                </a:moveTo>
                <a:cubicBezTo>
                  <a:pt x="10504" y="16455"/>
                  <a:pt x="10418" y="16612"/>
                  <a:pt x="10418" y="16768"/>
                </a:cubicBezTo>
                <a:cubicBezTo>
                  <a:pt x="10418" y="16943"/>
                  <a:pt x="10546" y="16966"/>
                  <a:pt x="10691" y="16917"/>
                </a:cubicBezTo>
                <a:cubicBezTo>
                  <a:pt x="10846" y="16865"/>
                  <a:pt x="10881" y="16825"/>
                  <a:pt x="10914" y="16694"/>
                </a:cubicBezTo>
                <a:cubicBezTo>
                  <a:pt x="10742" y="16671"/>
                  <a:pt x="10684" y="16707"/>
                  <a:pt x="10641" y="16892"/>
                </a:cubicBezTo>
                <a:cubicBezTo>
                  <a:pt x="10641" y="16909"/>
                  <a:pt x="10641" y="16925"/>
                  <a:pt x="10641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37200" y="4562640"/>
            <a:ext cx="169920" cy="339480"/>
          </a:xfrm>
          <a:custGeom>
            <a:avLst/>
            <a:gdLst/>
            <a:ahLst/>
            <a:rect l="l" t="t" r="r" b="b"/>
            <a:pathLst>
              <a:path w="472" h="944">
                <a:moveTo>
                  <a:pt x="16768" y="12675"/>
                </a:moveTo>
                <a:cubicBezTo>
                  <a:pt x="16824" y="12990"/>
                  <a:pt x="16859" y="13276"/>
                  <a:pt x="16842" y="13593"/>
                </a:cubicBezTo>
                <a:cubicBezTo>
                  <a:pt x="16831" y="13791"/>
                  <a:pt x="16860" y="13221"/>
                  <a:pt x="16991" y="13072"/>
                </a:cubicBezTo>
                <a:cubicBezTo>
                  <a:pt x="17032" y="13047"/>
                  <a:pt x="17074" y="13023"/>
                  <a:pt x="17115" y="12998"/>
                </a:cubicBezTo>
                <a:cubicBezTo>
                  <a:pt x="17244" y="13149"/>
                  <a:pt x="17300" y="13360"/>
                  <a:pt x="17140" y="13543"/>
                </a:cubicBezTo>
                <a:cubicBezTo>
                  <a:pt x="17039" y="13659"/>
                  <a:pt x="16975" y="13611"/>
                  <a:pt x="16867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35800" y="4010040"/>
            <a:ext cx="198360" cy="830160"/>
          </a:xfrm>
          <a:custGeom>
            <a:avLst/>
            <a:gdLst/>
            <a:ahLst/>
            <a:rect l="l" t="t" r="r" b="b"/>
            <a:pathLst>
              <a:path w="547" h="2308">
                <a:moveTo>
                  <a:pt x="18703" y="11137"/>
                </a:moveTo>
                <a:cubicBezTo>
                  <a:pt x="18703" y="11397"/>
                  <a:pt x="18671" y="11647"/>
                  <a:pt x="18653" y="11906"/>
                </a:cubicBezTo>
                <a:cubicBezTo>
                  <a:pt x="18653" y="11939"/>
                  <a:pt x="18653" y="11972"/>
                  <a:pt x="18653" y="12005"/>
                </a:cubicBezTo>
              </a:path>
              <a:path w="547" h="2308">
                <a:moveTo>
                  <a:pt x="18281" y="11187"/>
                </a:moveTo>
                <a:cubicBezTo>
                  <a:pt x="18281" y="11324"/>
                  <a:pt x="18217" y="11556"/>
                  <a:pt x="18281" y="11683"/>
                </a:cubicBezTo>
                <a:cubicBezTo>
                  <a:pt x="18321" y="11763"/>
                  <a:pt x="18616" y="11626"/>
                  <a:pt x="18678" y="11609"/>
                </a:cubicBezTo>
              </a:path>
              <a:path w="547" h="2308">
                <a:moveTo>
                  <a:pt x="18455" y="12601"/>
                </a:moveTo>
                <a:cubicBezTo>
                  <a:pt x="18331" y="12662"/>
                  <a:pt x="18238" y="12680"/>
                  <a:pt x="18207" y="12824"/>
                </a:cubicBezTo>
                <a:cubicBezTo>
                  <a:pt x="18187" y="12941"/>
                  <a:pt x="18194" y="12963"/>
                  <a:pt x="18157" y="13022"/>
                </a:cubicBezTo>
                <a:cubicBezTo>
                  <a:pt x="18277" y="12991"/>
                  <a:pt x="18660" y="12840"/>
                  <a:pt x="18703" y="13072"/>
                </a:cubicBezTo>
                <a:cubicBezTo>
                  <a:pt x="18759" y="13373"/>
                  <a:pt x="18421" y="13428"/>
                  <a:pt x="18231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58040" y="3946680"/>
            <a:ext cx="142920" cy="20628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20464" y="10964"/>
                </a:moveTo>
                <a:cubicBezTo>
                  <a:pt x="20519" y="11127"/>
                  <a:pt x="20451" y="11311"/>
                  <a:pt x="20439" y="11485"/>
                </a:cubicBezTo>
                <a:cubicBezTo>
                  <a:pt x="20639" y="11534"/>
                  <a:pt x="20657" y="11482"/>
                  <a:pt x="20836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83360" y="3795840"/>
            <a:ext cx="276480" cy="357120"/>
          </a:xfrm>
          <a:custGeom>
            <a:avLst/>
            <a:gdLst/>
            <a:ahLst/>
            <a:rect l="l" t="t" r="r" b="b"/>
            <a:pathLst>
              <a:path w="770" h="993">
                <a:moveTo>
                  <a:pt x="22423" y="10815"/>
                </a:moveTo>
                <a:cubicBezTo>
                  <a:pt x="22235" y="10815"/>
                  <a:pt x="22246" y="10767"/>
                  <a:pt x="22200" y="10964"/>
                </a:cubicBezTo>
                <a:cubicBezTo>
                  <a:pt x="22192" y="11005"/>
                  <a:pt x="22183" y="11047"/>
                  <a:pt x="22175" y="11088"/>
                </a:cubicBezTo>
                <a:cubicBezTo>
                  <a:pt x="22175" y="11096"/>
                  <a:pt x="22175" y="11104"/>
                  <a:pt x="22175" y="11112"/>
                </a:cubicBezTo>
                <a:cubicBezTo>
                  <a:pt x="22303" y="11130"/>
                  <a:pt x="22551" y="11036"/>
                  <a:pt x="22622" y="11187"/>
                </a:cubicBezTo>
                <a:cubicBezTo>
                  <a:pt x="22729" y="11413"/>
                  <a:pt x="22379" y="11509"/>
                  <a:pt x="22250" y="11534"/>
                </a:cubicBezTo>
              </a:path>
              <a:path w="770" h="993">
                <a:moveTo>
                  <a:pt x="22696" y="10542"/>
                </a:moveTo>
                <a:cubicBezTo>
                  <a:pt x="22758" y="10549"/>
                  <a:pt x="22793" y="10557"/>
                  <a:pt x="22845" y="10592"/>
                </a:cubicBezTo>
                <a:cubicBezTo>
                  <a:pt x="22808" y="10666"/>
                  <a:pt x="22767" y="10721"/>
                  <a:pt x="22721" y="10790"/>
                </a:cubicBezTo>
                <a:cubicBezTo>
                  <a:pt x="22793" y="10769"/>
                  <a:pt x="22869" y="10739"/>
                  <a:pt x="22944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3040" y="419724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7562" y="11708"/>
                </a:moveTo>
                <a:cubicBezTo>
                  <a:pt x="17648" y="11685"/>
                  <a:pt x="17722" y="11658"/>
                  <a:pt x="17810" y="11658"/>
                </a:cubicBezTo>
              </a:path>
              <a:path w="274" h="150">
                <a:moveTo>
                  <a:pt x="17636" y="11807"/>
                </a:moveTo>
                <a:cubicBezTo>
                  <a:pt x="17702" y="11807"/>
                  <a:pt x="17769" y="11807"/>
                  <a:pt x="17835" y="118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6200" y="4152960"/>
            <a:ext cx="223920" cy="22212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7041" y="11807"/>
                </a:moveTo>
                <a:cubicBezTo>
                  <a:pt x="17031" y="11693"/>
                  <a:pt x="17020" y="11622"/>
                  <a:pt x="16917" y="11559"/>
                </a:cubicBezTo>
                <a:cubicBezTo>
                  <a:pt x="16772" y="11470"/>
                  <a:pt x="16662" y="11716"/>
                  <a:pt x="16619" y="11807"/>
                </a:cubicBezTo>
                <a:cubicBezTo>
                  <a:pt x="16553" y="11984"/>
                  <a:pt x="16517" y="12031"/>
                  <a:pt x="16619" y="12129"/>
                </a:cubicBezTo>
                <a:cubicBezTo>
                  <a:pt x="16848" y="12129"/>
                  <a:pt x="16985" y="12060"/>
                  <a:pt x="17041" y="11807"/>
                </a:cubicBezTo>
                <a:cubicBezTo>
                  <a:pt x="17041" y="11766"/>
                  <a:pt x="17041" y="11724"/>
                  <a:pt x="17041" y="11683"/>
                </a:cubicBezTo>
                <a:cubicBezTo>
                  <a:pt x="16978" y="11703"/>
                  <a:pt x="17023" y="11933"/>
                  <a:pt x="17115" y="12080"/>
                </a:cubicBezTo>
                <a:cubicBezTo>
                  <a:pt x="17138" y="12103"/>
                  <a:pt x="17142" y="12111"/>
                  <a:pt x="17165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00840" y="5133960"/>
            <a:ext cx="2251080" cy="322200"/>
          </a:xfrm>
          <a:custGeom>
            <a:avLst/>
            <a:gdLst/>
            <a:ahLst/>
            <a:rect l="l" t="t" r="r" b="b"/>
            <a:pathLst>
              <a:path w="6252" h="894">
                <a:moveTo>
                  <a:pt x="17016" y="14436"/>
                </a:moveTo>
                <a:cubicBezTo>
                  <a:pt x="16955" y="14350"/>
                  <a:pt x="16907" y="14311"/>
                  <a:pt x="16818" y="14263"/>
                </a:cubicBezTo>
                <a:cubicBezTo>
                  <a:pt x="16686" y="14582"/>
                  <a:pt x="16606" y="14808"/>
                  <a:pt x="16768" y="15106"/>
                </a:cubicBezTo>
                <a:cubicBezTo>
                  <a:pt x="16952" y="15041"/>
                  <a:pt x="17037" y="15011"/>
                  <a:pt x="17190" y="14883"/>
                </a:cubicBezTo>
              </a:path>
              <a:path w="6252" h="894">
                <a:moveTo>
                  <a:pt x="17462" y="14585"/>
                </a:moveTo>
                <a:cubicBezTo>
                  <a:pt x="17569" y="14533"/>
                  <a:pt x="17609" y="14514"/>
                  <a:pt x="17686" y="14486"/>
                </a:cubicBezTo>
              </a:path>
              <a:path w="6252" h="894">
                <a:moveTo>
                  <a:pt x="17562" y="14734"/>
                </a:moveTo>
                <a:cubicBezTo>
                  <a:pt x="17620" y="14726"/>
                  <a:pt x="17677" y="14717"/>
                  <a:pt x="17735" y="14709"/>
                </a:cubicBezTo>
              </a:path>
              <a:path w="6252" h="894">
                <a:moveTo>
                  <a:pt x="22572" y="14957"/>
                </a:moveTo>
                <a:cubicBezTo>
                  <a:pt x="22671" y="14912"/>
                  <a:pt x="22740" y="14895"/>
                  <a:pt x="22845" y="14883"/>
                </a:cubicBezTo>
              </a:path>
              <a:path w="6252" h="894">
                <a:moveTo>
                  <a:pt x="22671" y="15156"/>
                </a:moveTo>
                <a:cubicBezTo>
                  <a:pt x="22796" y="15106"/>
                  <a:pt x="22837" y="15090"/>
                  <a:pt x="22920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43960" y="3724200"/>
            <a:ext cx="339840" cy="401760"/>
          </a:xfrm>
          <a:custGeom>
            <a:avLst/>
            <a:gdLst/>
            <a:ahLst/>
            <a:rect l="l" t="t" r="r" b="b"/>
            <a:pathLst>
              <a:path w="944" h="1117">
                <a:moveTo>
                  <a:pt x="24085" y="10939"/>
                </a:moveTo>
                <a:cubicBezTo>
                  <a:pt x="24051" y="10761"/>
                  <a:pt x="24001" y="11310"/>
                  <a:pt x="24011" y="11336"/>
                </a:cubicBezTo>
                <a:cubicBezTo>
                  <a:pt x="24118" y="11617"/>
                  <a:pt x="24381" y="11346"/>
                  <a:pt x="24482" y="11237"/>
                </a:cubicBezTo>
              </a:path>
              <a:path w="944" h="1117">
                <a:moveTo>
                  <a:pt x="24532" y="10393"/>
                </a:moveTo>
                <a:cubicBezTo>
                  <a:pt x="24608" y="10370"/>
                  <a:pt x="24676" y="10352"/>
                  <a:pt x="24755" y="10344"/>
                </a:cubicBezTo>
                <a:cubicBezTo>
                  <a:pt x="24828" y="10488"/>
                  <a:pt x="24741" y="10546"/>
                  <a:pt x="24631" y="10666"/>
                </a:cubicBezTo>
                <a:cubicBezTo>
                  <a:pt x="24745" y="10645"/>
                  <a:pt x="24855" y="10604"/>
                  <a:pt x="24954" y="10542"/>
                </a:cubicBezTo>
              </a:path>
              <a:path w="944" h="1117">
                <a:moveTo>
                  <a:pt x="24358" y="10914"/>
                </a:moveTo>
                <a:cubicBezTo>
                  <a:pt x="24292" y="10939"/>
                  <a:pt x="24020" y="11030"/>
                  <a:pt x="24309" y="10889"/>
                </a:cubicBezTo>
                <a:cubicBezTo>
                  <a:pt x="24334" y="10881"/>
                  <a:pt x="24358" y="10872"/>
                  <a:pt x="24383" y="10864"/>
                </a:cubicBezTo>
                <a:cubicBezTo>
                  <a:pt x="24295" y="10966"/>
                  <a:pt x="24196" y="10994"/>
                  <a:pt x="24061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88160" y="4464000"/>
            <a:ext cx="162000" cy="36720"/>
          </a:xfrm>
          <a:custGeom>
            <a:avLst/>
            <a:gdLst/>
            <a:ahLst/>
            <a:rect l="l" t="t" r="r" b="b"/>
            <a:pathLst>
              <a:path w="447" h="101">
                <a:moveTo>
                  <a:pt x="21357" y="12502"/>
                </a:moveTo>
                <a:cubicBezTo>
                  <a:pt x="21504" y="12477"/>
                  <a:pt x="21655" y="12435"/>
                  <a:pt x="21803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8040" y="4394160"/>
            <a:ext cx="420840" cy="258840"/>
          </a:xfrm>
          <a:custGeom>
            <a:avLst/>
            <a:gdLst/>
            <a:ahLst/>
            <a:rect l="l" t="t" r="r" b="b"/>
            <a:pathLst>
              <a:path w="1167" h="720">
                <a:moveTo>
                  <a:pt x="20513" y="12303"/>
                </a:moveTo>
                <a:cubicBezTo>
                  <a:pt x="20478" y="12391"/>
                  <a:pt x="20452" y="12698"/>
                  <a:pt x="20439" y="12874"/>
                </a:cubicBezTo>
                <a:cubicBezTo>
                  <a:pt x="20439" y="12890"/>
                  <a:pt x="20439" y="12907"/>
                  <a:pt x="20439" y="12923"/>
                </a:cubicBezTo>
              </a:path>
              <a:path w="1167" h="720">
                <a:moveTo>
                  <a:pt x="20836" y="12204"/>
                </a:moveTo>
                <a:cubicBezTo>
                  <a:pt x="20865" y="12388"/>
                  <a:pt x="20797" y="12603"/>
                  <a:pt x="20861" y="12774"/>
                </a:cubicBezTo>
                <a:cubicBezTo>
                  <a:pt x="20913" y="12915"/>
                  <a:pt x="21185" y="12786"/>
                  <a:pt x="21233" y="12700"/>
                </a:cubicBezTo>
                <a:cubicBezTo>
                  <a:pt x="21253" y="12599"/>
                  <a:pt x="21272" y="12579"/>
                  <a:pt x="21233" y="12526"/>
                </a:cubicBezTo>
                <a:cubicBezTo>
                  <a:pt x="21102" y="12462"/>
                  <a:pt x="21043" y="12516"/>
                  <a:pt x="21010" y="12675"/>
                </a:cubicBezTo>
                <a:cubicBezTo>
                  <a:pt x="21010" y="12716"/>
                  <a:pt x="21010" y="12758"/>
                  <a:pt x="21010" y="12799"/>
                </a:cubicBezTo>
              </a:path>
              <a:path w="1167" h="720">
                <a:moveTo>
                  <a:pt x="21580" y="12278"/>
                </a:moveTo>
                <a:cubicBezTo>
                  <a:pt x="21580" y="12422"/>
                  <a:pt x="21592" y="12558"/>
                  <a:pt x="21605" y="12700"/>
                </a:cubicBezTo>
                <a:cubicBezTo>
                  <a:pt x="21605" y="12717"/>
                  <a:pt x="21605" y="12733"/>
                  <a:pt x="21605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91640" y="4348080"/>
            <a:ext cx="349200" cy="233280"/>
          </a:xfrm>
          <a:custGeom>
            <a:avLst/>
            <a:gdLst/>
            <a:ahLst/>
            <a:rect l="l" t="t" r="r" b="b"/>
            <a:pathLst>
              <a:path w="969" h="646">
                <a:moveTo>
                  <a:pt x="22275" y="12229"/>
                </a:moveTo>
                <a:cubicBezTo>
                  <a:pt x="22227" y="12318"/>
                  <a:pt x="22321" y="12106"/>
                  <a:pt x="22448" y="12129"/>
                </a:cubicBezTo>
                <a:cubicBezTo>
                  <a:pt x="22579" y="12152"/>
                  <a:pt x="22515" y="12340"/>
                  <a:pt x="22473" y="12402"/>
                </a:cubicBezTo>
                <a:cubicBezTo>
                  <a:pt x="22395" y="12518"/>
                  <a:pt x="22280" y="12606"/>
                  <a:pt x="22200" y="12725"/>
                </a:cubicBezTo>
                <a:cubicBezTo>
                  <a:pt x="22264" y="12661"/>
                  <a:pt x="22389" y="12461"/>
                  <a:pt x="22498" y="12502"/>
                </a:cubicBezTo>
                <a:cubicBezTo>
                  <a:pt x="22566" y="12528"/>
                  <a:pt x="22566" y="12566"/>
                  <a:pt x="22647" y="12576"/>
                </a:cubicBezTo>
              </a:path>
              <a:path w="969" h="646">
                <a:moveTo>
                  <a:pt x="23093" y="12080"/>
                </a:moveTo>
                <a:cubicBezTo>
                  <a:pt x="23025" y="12105"/>
                  <a:pt x="22891" y="12122"/>
                  <a:pt x="22845" y="12179"/>
                </a:cubicBezTo>
                <a:cubicBezTo>
                  <a:pt x="22804" y="12262"/>
                  <a:pt x="22796" y="12278"/>
                  <a:pt x="22771" y="12328"/>
                </a:cubicBezTo>
                <a:cubicBezTo>
                  <a:pt x="22889" y="12312"/>
                  <a:pt x="23034" y="12219"/>
                  <a:pt x="23143" y="12328"/>
                </a:cubicBezTo>
                <a:cubicBezTo>
                  <a:pt x="23308" y="12492"/>
                  <a:pt x="23030" y="12608"/>
                  <a:pt x="22920" y="12626"/>
                </a:cubicBezTo>
                <a:cubicBezTo>
                  <a:pt x="22887" y="12626"/>
                  <a:pt x="22853" y="12626"/>
                  <a:pt x="22820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89960" y="4375080"/>
            <a:ext cx="9036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23862" y="12204"/>
                </a:moveTo>
                <a:cubicBezTo>
                  <a:pt x="23970" y="12204"/>
                  <a:pt x="24009" y="12192"/>
                  <a:pt x="24110" y="121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48760" y="4680000"/>
            <a:ext cx="528480" cy="857160"/>
          </a:xfrm>
          <a:custGeom>
            <a:avLst/>
            <a:gdLst/>
            <a:ahLst/>
            <a:rect l="l" t="t" r="r" b="b"/>
            <a:pathLst>
              <a:path w="1465" h="2382">
                <a:moveTo>
                  <a:pt x="23738" y="13543"/>
                </a:moveTo>
                <a:cubicBezTo>
                  <a:pt x="23779" y="13685"/>
                  <a:pt x="23818" y="13774"/>
                  <a:pt x="23912" y="13891"/>
                </a:cubicBezTo>
                <a:cubicBezTo>
                  <a:pt x="23932" y="13609"/>
                  <a:pt x="23816" y="13430"/>
                  <a:pt x="23788" y="13171"/>
                </a:cubicBezTo>
                <a:cubicBezTo>
                  <a:pt x="23788" y="13136"/>
                  <a:pt x="23792" y="13119"/>
                  <a:pt x="23812" y="13097"/>
                </a:cubicBezTo>
                <a:cubicBezTo>
                  <a:pt x="24078" y="13118"/>
                  <a:pt x="24343" y="13089"/>
                  <a:pt x="24606" y="13022"/>
                </a:cubicBezTo>
                <a:cubicBezTo>
                  <a:pt x="24623" y="13014"/>
                  <a:pt x="24639" y="13006"/>
                  <a:pt x="24656" y="12998"/>
                </a:cubicBezTo>
              </a:path>
              <a:path w="1465" h="2382">
                <a:moveTo>
                  <a:pt x="24110" y="13320"/>
                </a:moveTo>
                <a:cubicBezTo>
                  <a:pt x="24122" y="13438"/>
                  <a:pt x="24118" y="13525"/>
                  <a:pt x="24110" y="13643"/>
                </a:cubicBezTo>
                <a:cubicBezTo>
                  <a:pt x="24281" y="13643"/>
                  <a:pt x="24366" y="13588"/>
                  <a:pt x="24507" y="13494"/>
                </a:cubicBezTo>
              </a:path>
              <a:path w="1465" h="2382">
                <a:moveTo>
                  <a:pt x="24433" y="13246"/>
                </a:moveTo>
                <a:cubicBezTo>
                  <a:pt x="24461" y="13414"/>
                  <a:pt x="24510" y="13601"/>
                  <a:pt x="24557" y="13767"/>
                </a:cubicBezTo>
                <a:cubicBezTo>
                  <a:pt x="24565" y="13783"/>
                  <a:pt x="24573" y="13800"/>
                  <a:pt x="24581" y="13816"/>
                </a:cubicBezTo>
              </a:path>
              <a:path w="1465" h="2382">
                <a:moveTo>
                  <a:pt x="23341" y="14610"/>
                </a:moveTo>
                <a:cubicBezTo>
                  <a:pt x="23292" y="14823"/>
                  <a:pt x="23148" y="15081"/>
                  <a:pt x="23192" y="15304"/>
                </a:cubicBezTo>
                <a:cubicBezTo>
                  <a:pt x="23239" y="15545"/>
                  <a:pt x="23587" y="15277"/>
                  <a:pt x="23639" y="15180"/>
                </a:cubicBezTo>
                <a:cubicBezTo>
                  <a:pt x="23647" y="15139"/>
                  <a:pt x="23656" y="15097"/>
                  <a:pt x="23664" y="15056"/>
                </a:cubicBezTo>
                <a:cubicBezTo>
                  <a:pt x="23473" y="15044"/>
                  <a:pt x="23477" y="15092"/>
                  <a:pt x="23465" y="15280"/>
                </a:cubicBezTo>
              </a:path>
              <a:path w="1465" h="2382">
                <a:moveTo>
                  <a:pt x="23912" y="15180"/>
                </a:moveTo>
                <a:cubicBezTo>
                  <a:pt x="23892" y="15221"/>
                  <a:pt x="23883" y="15227"/>
                  <a:pt x="23887" y="15255"/>
                </a:cubicBezTo>
                <a:cubicBezTo>
                  <a:pt x="23937" y="15192"/>
                  <a:pt x="23954" y="15207"/>
                  <a:pt x="23887" y="15180"/>
                </a:cubicBezTo>
              </a:path>
              <a:path w="1465" h="2382">
                <a:moveTo>
                  <a:pt x="23912" y="14585"/>
                </a:moveTo>
                <a:cubicBezTo>
                  <a:pt x="23997" y="14722"/>
                  <a:pt x="24011" y="14767"/>
                  <a:pt x="24011" y="14932"/>
                </a:cubicBezTo>
                <a:cubicBezTo>
                  <a:pt x="24137" y="14923"/>
                  <a:pt x="24238" y="14888"/>
                  <a:pt x="24358" y="14858"/>
                </a:cubicBezTo>
              </a:path>
              <a:path w="1465" h="2382">
                <a:moveTo>
                  <a:pt x="24234" y="14387"/>
                </a:moveTo>
                <a:cubicBezTo>
                  <a:pt x="24250" y="14592"/>
                  <a:pt x="24293" y="14782"/>
                  <a:pt x="24333" y="14982"/>
                </a:cubicBezTo>
                <a:cubicBezTo>
                  <a:pt x="24355" y="15115"/>
                  <a:pt x="24360" y="15149"/>
                  <a:pt x="24383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67880" y="4295880"/>
            <a:ext cx="268200" cy="222120"/>
          </a:xfrm>
          <a:custGeom>
            <a:avLst/>
            <a:gdLst/>
            <a:ahLst/>
            <a:rect l="l" t="t" r="r" b="b"/>
            <a:pathLst>
              <a:path w="745" h="621">
                <a:moveTo>
                  <a:pt x="24656" y="12030"/>
                </a:moveTo>
                <a:cubicBezTo>
                  <a:pt x="24645" y="12115"/>
                  <a:pt x="24636" y="12193"/>
                  <a:pt x="24631" y="12278"/>
                </a:cubicBezTo>
                <a:cubicBezTo>
                  <a:pt x="24757" y="12301"/>
                  <a:pt x="24851" y="12252"/>
                  <a:pt x="24978" y="12229"/>
                </a:cubicBezTo>
              </a:path>
              <a:path w="745" h="621">
                <a:moveTo>
                  <a:pt x="25301" y="11931"/>
                </a:moveTo>
                <a:cubicBezTo>
                  <a:pt x="25327" y="12122"/>
                  <a:pt x="25345" y="12310"/>
                  <a:pt x="25375" y="12502"/>
                </a:cubicBezTo>
                <a:cubicBezTo>
                  <a:pt x="25375" y="12526"/>
                  <a:pt x="25375" y="12535"/>
                  <a:pt x="25375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26320" y="4357800"/>
            <a:ext cx="347760" cy="625320"/>
          </a:xfrm>
          <a:custGeom>
            <a:avLst/>
            <a:gdLst/>
            <a:ahLst/>
            <a:rect l="l" t="t" r="r" b="b"/>
            <a:pathLst>
              <a:path w="969" h="1737">
                <a:moveTo>
                  <a:pt x="23961" y="12353"/>
                </a:moveTo>
                <a:cubicBezTo>
                  <a:pt x="24031" y="12353"/>
                  <a:pt x="24066" y="12344"/>
                  <a:pt x="24110" y="12303"/>
                </a:cubicBezTo>
              </a:path>
              <a:path w="969" h="1737">
                <a:moveTo>
                  <a:pt x="24929" y="12105"/>
                </a:moveTo>
                <a:cubicBezTo>
                  <a:pt x="24924" y="12249"/>
                  <a:pt x="24914" y="12384"/>
                  <a:pt x="24904" y="12526"/>
                </a:cubicBezTo>
              </a:path>
              <a:path w="969" h="1737">
                <a:moveTo>
                  <a:pt x="24780" y="13246"/>
                </a:moveTo>
                <a:cubicBezTo>
                  <a:pt x="24820" y="13445"/>
                  <a:pt x="24866" y="13641"/>
                  <a:pt x="24904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58080" y="5330880"/>
            <a:ext cx="196920" cy="250920"/>
          </a:xfrm>
          <a:custGeom>
            <a:avLst/>
            <a:gdLst/>
            <a:ahLst/>
            <a:rect l="l" t="t" r="r" b="b"/>
            <a:pathLst>
              <a:path w="547" h="696">
                <a:moveTo>
                  <a:pt x="22076" y="14858"/>
                </a:moveTo>
                <a:cubicBezTo>
                  <a:pt x="22101" y="14875"/>
                  <a:pt x="22126" y="14891"/>
                  <a:pt x="22151" y="14908"/>
                </a:cubicBezTo>
                <a:cubicBezTo>
                  <a:pt x="22194" y="14951"/>
                  <a:pt x="21999" y="14727"/>
                  <a:pt x="21903" y="14833"/>
                </a:cubicBezTo>
                <a:cubicBezTo>
                  <a:pt x="21799" y="14948"/>
                  <a:pt x="21759" y="15439"/>
                  <a:pt x="21952" y="15503"/>
                </a:cubicBezTo>
                <a:cubicBezTo>
                  <a:pt x="22106" y="15554"/>
                  <a:pt x="22279" y="15357"/>
                  <a:pt x="22374" y="152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ding a missing s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te the numbers into the theor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the equation for the missing vari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.2  a = 21 m, b = 28, c = ___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8080" y="3352680"/>
            <a:ext cx="2667240" cy="2532600"/>
            <a:chOff x="838080" y="3352680"/>
            <a:chExt cx="2667240" cy="2532600"/>
          </a:xfrm>
        </p:grpSpPr>
        <p:sp>
          <p:nvSpPr>
            <p:cNvPr id="154" name=""/>
            <p:cNvSpPr/>
            <p:nvPr/>
          </p:nvSpPr>
          <p:spPr>
            <a:xfrm>
              <a:off x="1523880" y="3352680"/>
              <a:ext cx="1828800" cy="2057400"/>
            </a:xfrm>
            <a:prstGeom prst="rtTriangl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426708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15 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8280" y="403848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25 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54864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009800" y="4125960"/>
            <a:ext cx="222120" cy="196920"/>
          </a:xfrm>
          <a:custGeom>
            <a:avLst/>
            <a:gdLst/>
            <a:ahLst/>
            <a:rect l="l" t="t" r="r" b="b"/>
            <a:pathLst>
              <a:path w="621" h="546">
                <a:moveTo>
                  <a:pt x="3249" y="11658"/>
                </a:moveTo>
                <a:cubicBezTo>
                  <a:pt x="3209" y="11578"/>
                  <a:pt x="3155" y="11408"/>
                  <a:pt x="3026" y="11460"/>
                </a:cubicBezTo>
                <a:cubicBezTo>
                  <a:pt x="2807" y="11548"/>
                  <a:pt x="2822" y="11810"/>
                  <a:pt x="2853" y="11981"/>
                </a:cubicBezTo>
                <a:cubicBezTo>
                  <a:pt x="3060" y="11992"/>
                  <a:pt x="3171" y="11933"/>
                  <a:pt x="3225" y="11708"/>
                </a:cubicBezTo>
                <a:cubicBezTo>
                  <a:pt x="3225" y="11675"/>
                  <a:pt x="3225" y="11642"/>
                  <a:pt x="3225" y="11609"/>
                </a:cubicBezTo>
                <a:cubicBezTo>
                  <a:pt x="3210" y="11746"/>
                  <a:pt x="3177" y="11901"/>
                  <a:pt x="3349" y="11956"/>
                </a:cubicBezTo>
                <a:cubicBezTo>
                  <a:pt x="3390" y="11956"/>
                  <a:pt x="3398" y="11956"/>
                  <a:pt x="3423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9800" y="3687840"/>
            <a:ext cx="287280" cy="571320"/>
          </a:xfrm>
          <a:custGeom>
            <a:avLst/>
            <a:gdLst/>
            <a:ahLst/>
            <a:rect l="l" t="t" r="r" b="b"/>
            <a:pathLst>
              <a:path w="795" h="1589">
                <a:moveTo>
                  <a:pt x="15056" y="10294"/>
                </a:moveTo>
                <a:cubicBezTo>
                  <a:pt x="15196" y="10266"/>
                  <a:pt x="15254" y="10255"/>
                  <a:pt x="15354" y="10244"/>
                </a:cubicBezTo>
              </a:path>
              <a:path w="795" h="1589">
                <a:moveTo>
                  <a:pt x="15354" y="11361"/>
                </a:moveTo>
                <a:cubicBezTo>
                  <a:pt x="15396" y="11513"/>
                  <a:pt x="15462" y="11669"/>
                  <a:pt x="15503" y="11832"/>
                </a:cubicBezTo>
              </a:path>
              <a:path w="795" h="1589">
                <a:moveTo>
                  <a:pt x="15354" y="11658"/>
                </a:moveTo>
                <a:cubicBezTo>
                  <a:pt x="15520" y="11634"/>
                  <a:pt x="15685" y="11603"/>
                  <a:pt x="15850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56160" y="3554280"/>
            <a:ext cx="36720" cy="196920"/>
          </a:xfrm>
          <a:custGeom>
            <a:avLst/>
            <a:gdLst/>
            <a:ahLst/>
            <a:rect l="l" t="t" r="r" b="b"/>
            <a:pathLst>
              <a:path w="100" h="547">
                <a:moveTo>
                  <a:pt x="15156" y="9872"/>
                </a:moveTo>
                <a:cubicBezTo>
                  <a:pt x="15171" y="10058"/>
                  <a:pt x="15196" y="10241"/>
                  <a:pt x="15255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" y="5303880"/>
            <a:ext cx="5938920" cy="1305000"/>
          </a:xfrm>
          <a:custGeom>
            <a:avLst/>
            <a:gdLst/>
            <a:ahLst/>
            <a:rect l="l" t="t" r="r" b="b"/>
            <a:pathLst>
              <a:path w="16496" h="3622">
                <a:moveTo>
                  <a:pt x="6077" y="17115"/>
                </a:moveTo>
                <a:cubicBezTo>
                  <a:pt x="6183" y="17078"/>
                  <a:pt x="6264" y="17051"/>
                  <a:pt x="6375" y="17041"/>
                </a:cubicBezTo>
              </a:path>
              <a:path w="16496" h="3622">
                <a:moveTo>
                  <a:pt x="6152" y="17239"/>
                </a:moveTo>
                <a:cubicBezTo>
                  <a:pt x="6283" y="17196"/>
                  <a:pt x="6316" y="17183"/>
                  <a:pt x="6400" y="17165"/>
                </a:cubicBezTo>
              </a:path>
              <a:path w="16496" h="3622">
                <a:moveTo>
                  <a:pt x="4366" y="17835"/>
                </a:moveTo>
                <a:cubicBezTo>
                  <a:pt x="4432" y="17698"/>
                  <a:pt x="4460" y="17982"/>
                  <a:pt x="4465" y="18033"/>
                </a:cubicBezTo>
              </a:path>
              <a:path w="16496" h="3622">
                <a:moveTo>
                  <a:pt x="4291" y="17909"/>
                </a:moveTo>
                <a:cubicBezTo>
                  <a:pt x="4399" y="17899"/>
                  <a:pt x="4506" y="17878"/>
                  <a:pt x="4614" y="17859"/>
                </a:cubicBezTo>
              </a:path>
              <a:path w="16496" h="3622">
                <a:moveTo>
                  <a:pt x="6350" y="17810"/>
                </a:moveTo>
                <a:cubicBezTo>
                  <a:pt x="6435" y="17779"/>
                  <a:pt x="6508" y="17766"/>
                  <a:pt x="6598" y="17760"/>
                </a:cubicBezTo>
              </a:path>
              <a:path w="16496" h="3622">
                <a:moveTo>
                  <a:pt x="6375" y="17934"/>
                </a:moveTo>
                <a:cubicBezTo>
                  <a:pt x="6445" y="17898"/>
                  <a:pt x="6485" y="17885"/>
                  <a:pt x="6548" y="17884"/>
                </a:cubicBezTo>
              </a:path>
              <a:path w="16496" h="3622">
                <a:moveTo>
                  <a:pt x="7913" y="17562"/>
                </a:moveTo>
                <a:cubicBezTo>
                  <a:pt x="8015" y="17498"/>
                  <a:pt x="8043" y="17474"/>
                  <a:pt x="8161" y="17462"/>
                </a:cubicBezTo>
              </a:path>
              <a:path w="16496" h="3622">
                <a:moveTo>
                  <a:pt x="2282" y="18083"/>
                </a:moveTo>
                <a:cubicBezTo>
                  <a:pt x="2397" y="18064"/>
                  <a:pt x="2428" y="18049"/>
                  <a:pt x="2530" y="18083"/>
                </a:cubicBezTo>
              </a:path>
              <a:path w="16496" h="3622">
                <a:moveTo>
                  <a:pt x="4018" y="18132"/>
                </a:moveTo>
                <a:cubicBezTo>
                  <a:pt x="4092" y="18173"/>
                  <a:pt x="4213" y="18230"/>
                  <a:pt x="4118" y="18331"/>
                </a:cubicBezTo>
                <a:cubicBezTo>
                  <a:pt x="4101" y="18339"/>
                  <a:pt x="4085" y="18347"/>
                  <a:pt x="4068" y="18355"/>
                </a:cubicBezTo>
              </a:path>
              <a:path w="16496" h="3622">
                <a:moveTo>
                  <a:pt x="3994" y="18107"/>
                </a:moveTo>
                <a:cubicBezTo>
                  <a:pt x="4053" y="18102"/>
                  <a:pt x="4087" y="18094"/>
                  <a:pt x="4142" y="18083"/>
                </a:cubicBezTo>
              </a:path>
              <a:path w="16496" h="3622">
                <a:moveTo>
                  <a:pt x="8086" y="17983"/>
                </a:moveTo>
                <a:cubicBezTo>
                  <a:pt x="8259" y="17968"/>
                  <a:pt x="8279" y="17920"/>
                  <a:pt x="8334" y="18058"/>
                </a:cubicBezTo>
              </a:path>
              <a:path w="16496" h="3622">
                <a:moveTo>
                  <a:pt x="10120" y="18033"/>
                </a:moveTo>
                <a:cubicBezTo>
                  <a:pt x="10161" y="18033"/>
                  <a:pt x="10203" y="18033"/>
                  <a:pt x="10244" y="18033"/>
                </a:cubicBezTo>
              </a:path>
              <a:path w="16496" h="3622">
                <a:moveTo>
                  <a:pt x="10616" y="17785"/>
                </a:moveTo>
                <a:cubicBezTo>
                  <a:pt x="10616" y="17768"/>
                  <a:pt x="10616" y="17752"/>
                  <a:pt x="10616" y="17735"/>
                </a:cubicBezTo>
              </a:path>
              <a:path w="16496" h="3622">
                <a:moveTo>
                  <a:pt x="11088" y="17611"/>
                </a:moveTo>
                <a:cubicBezTo>
                  <a:pt x="10985" y="17753"/>
                  <a:pt x="10954" y="17863"/>
                  <a:pt x="10964" y="18033"/>
                </a:cubicBezTo>
                <a:cubicBezTo>
                  <a:pt x="11119" y="18017"/>
                  <a:pt x="11207" y="17961"/>
                  <a:pt x="11212" y="17785"/>
                </a:cubicBezTo>
                <a:cubicBezTo>
                  <a:pt x="11188" y="17713"/>
                  <a:pt x="11181" y="17690"/>
                  <a:pt x="11137" y="17661"/>
                </a:cubicBezTo>
              </a:path>
              <a:path w="16496" h="3622">
                <a:moveTo>
                  <a:pt x="11385" y="17611"/>
                </a:moveTo>
                <a:cubicBezTo>
                  <a:pt x="11316" y="17729"/>
                  <a:pt x="11287" y="17751"/>
                  <a:pt x="11311" y="17884"/>
                </a:cubicBezTo>
                <a:cubicBezTo>
                  <a:pt x="11503" y="17899"/>
                  <a:pt x="11521" y="17832"/>
                  <a:pt x="11460" y="17661"/>
                </a:cubicBezTo>
              </a:path>
              <a:path w="16496" h="3622">
                <a:moveTo>
                  <a:pt x="9996" y="16297"/>
                </a:moveTo>
                <a:cubicBezTo>
                  <a:pt x="10112" y="16320"/>
                  <a:pt x="10146" y="16329"/>
                  <a:pt x="10220" y="16297"/>
                </a:cubicBezTo>
              </a:path>
              <a:path w="16496" h="3622">
                <a:moveTo>
                  <a:pt x="15776" y="14734"/>
                </a:moveTo>
                <a:cubicBezTo>
                  <a:pt x="15797" y="14836"/>
                  <a:pt x="15808" y="14863"/>
                  <a:pt x="15776" y="14957"/>
                </a:cubicBezTo>
              </a:path>
              <a:path w="16496" h="3622">
                <a:moveTo>
                  <a:pt x="16173" y="16446"/>
                </a:moveTo>
                <a:cubicBezTo>
                  <a:pt x="16199" y="16559"/>
                  <a:pt x="16213" y="16632"/>
                  <a:pt x="16197" y="16743"/>
                </a:cubicBezTo>
              </a:path>
              <a:path w="16496" h="3622">
                <a:moveTo>
                  <a:pt x="18331" y="17214"/>
                </a:moveTo>
                <a:cubicBezTo>
                  <a:pt x="18442" y="17207"/>
                  <a:pt x="18544" y="17189"/>
                  <a:pt x="18653" y="17165"/>
                </a:cubicBezTo>
              </a:path>
              <a:path w="16496" h="3622">
                <a:moveTo>
                  <a:pt x="18380" y="17462"/>
                </a:moveTo>
                <a:cubicBezTo>
                  <a:pt x="18514" y="17440"/>
                  <a:pt x="18639" y="17398"/>
                  <a:pt x="18777" y="17388"/>
                </a:cubicBezTo>
              </a:path>
              <a:path w="16496" h="3622">
                <a:moveTo>
                  <a:pt x="17363" y="17214"/>
                </a:moveTo>
                <a:cubicBezTo>
                  <a:pt x="17445" y="17158"/>
                  <a:pt x="17493" y="17117"/>
                  <a:pt x="17587" y="170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65160" y="6018120"/>
            <a:ext cx="1079640" cy="590760"/>
          </a:xfrm>
          <a:custGeom>
            <a:avLst/>
            <a:gdLst/>
            <a:ahLst/>
            <a:rect l="l" t="t" r="r" b="b"/>
            <a:pathLst>
              <a:path w="3002" h="1638">
                <a:moveTo>
                  <a:pt x="2679" y="16818"/>
                </a:moveTo>
                <a:cubicBezTo>
                  <a:pt x="2721" y="17004"/>
                  <a:pt x="2771" y="17155"/>
                  <a:pt x="2778" y="17363"/>
                </a:cubicBezTo>
                <a:cubicBezTo>
                  <a:pt x="2778" y="17462"/>
                  <a:pt x="2778" y="17479"/>
                  <a:pt x="2778" y="17537"/>
                </a:cubicBezTo>
              </a:path>
              <a:path w="3002" h="1638">
                <a:moveTo>
                  <a:pt x="3249" y="16818"/>
                </a:moveTo>
                <a:cubicBezTo>
                  <a:pt x="3098" y="16915"/>
                  <a:pt x="3081" y="16931"/>
                  <a:pt x="3026" y="17115"/>
                </a:cubicBezTo>
                <a:cubicBezTo>
                  <a:pt x="3144" y="17115"/>
                  <a:pt x="3388" y="17070"/>
                  <a:pt x="3373" y="17264"/>
                </a:cubicBezTo>
                <a:cubicBezTo>
                  <a:pt x="3361" y="17424"/>
                  <a:pt x="3186" y="17588"/>
                  <a:pt x="3026" y="17487"/>
                </a:cubicBezTo>
                <a:cubicBezTo>
                  <a:pt x="3010" y="17462"/>
                  <a:pt x="2993" y="17438"/>
                  <a:pt x="2977" y="17413"/>
                </a:cubicBezTo>
              </a:path>
              <a:path w="3002" h="1638">
                <a:moveTo>
                  <a:pt x="3547" y="16793"/>
                </a:moveTo>
                <a:cubicBezTo>
                  <a:pt x="3674" y="16811"/>
                  <a:pt x="3774" y="16840"/>
                  <a:pt x="3671" y="16991"/>
                </a:cubicBezTo>
                <a:cubicBezTo>
                  <a:pt x="3609" y="17054"/>
                  <a:pt x="3592" y="17064"/>
                  <a:pt x="3572" y="17115"/>
                </a:cubicBezTo>
                <a:cubicBezTo>
                  <a:pt x="3646" y="17096"/>
                  <a:pt x="3720" y="17076"/>
                  <a:pt x="3795" y="17066"/>
                </a:cubicBezTo>
              </a:path>
              <a:path w="3002" h="1638">
                <a:moveTo>
                  <a:pt x="4266" y="17041"/>
                </a:moveTo>
                <a:cubicBezTo>
                  <a:pt x="4287" y="17167"/>
                  <a:pt x="4308" y="17290"/>
                  <a:pt x="4341" y="17413"/>
                </a:cubicBezTo>
              </a:path>
              <a:path w="3002" h="1638">
                <a:moveTo>
                  <a:pt x="4142" y="17314"/>
                </a:moveTo>
                <a:cubicBezTo>
                  <a:pt x="4300" y="17305"/>
                  <a:pt x="4457" y="17277"/>
                  <a:pt x="4614" y="17264"/>
                </a:cubicBezTo>
              </a:path>
              <a:path w="3002" h="1638">
                <a:moveTo>
                  <a:pt x="4887" y="16793"/>
                </a:moveTo>
                <a:cubicBezTo>
                  <a:pt x="4912" y="17018"/>
                  <a:pt x="4965" y="17237"/>
                  <a:pt x="5011" y="17462"/>
                </a:cubicBezTo>
                <a:cubicBezTo>
                  <a:pt x="5011" y="17311"/>
                  <a:pt x="5019" y="17279"/>
                  <a:pt x="5135" y="17190"/>
                </a:cubicBezTo>
                <a:cubicBezTo>
                  <a:pt x="5192" y="17286"/>
                  <a:pt x="5322" y="17406"/>
                  <a:pt x="5159" y="17487"/>
                </a:cubicBezTo>
                <a:cubicBezTo>
                  <a:pt x="5090" y="17521"/>
                  <a:pt x="4969" y="17529"/>
                  <a:pt x="4911" y="17512"/>
                </a:cubicBezTo>
              </a:path>
              <a:path w="3002" h="1638">
                <a:moveTo>
                  <a:pt x="5383" y="16743"/>
                </a:moveTo>
                <a:cubicBezTo>
                  <a:pt x="5460" y="16709"/>
                  <a:pt x="5497" y="16723"/>
                  <a:pt x="5581" y="16743"/>
                </a:cubicBezTo>
                <a:cubicBezTo>
                  <a:pt x="5597" y="16902"/>
                  <a:pt x="5461" y="16882"/>
                  <a:pt x="5432" y="17016"/>
                </a:cubicBezTo>
                <a:cubicBezTo>
                  <a:pt x="5428" y="17032"/>
                  <a:pt x="5581" y="16998"/>
                  <a:pt x="5606" y="16991"/>
                </a:cubicBezTo>
              </a:path>
              <a:path w="3002" h="1638">
                <a:moveTo>
                  <a:pt x="2828" y="17835"/>
                </a:moveTo>
                <a:cubicBezTo>
                  <a:pt x="2894" y="17835"/>
                  <a:pt x="2911" y="17835"/>
                  <a:pt x="2952" y="17835"/>
                </a:cubicBezTo>
                <a:cubicBezTo>
                  <a:pt x="2983" y="18002"/>
                  <a:pt x="2912" y="18079"/>
                  <a:pt x="2803" y="18207"/>
                </a:cubicBezTo>
                <a:cubicBezTo>
                  <a:pt x="2903" y="18207"/>
                  <a:pt x="2937" y="18207"/>
                  <a:pt x="3001" y="18182"/>
                </a:cubicBezTo>
              </a:path>
              <a:path w="3002" h="1638">
                <a:moveTo>
                  <a:pt x="3101" y="17810"/>
                </a:moveTo>
                <a:cubicBezTo>
                  <a:pt x="3163" y="17789"/>
                  <a:pt x="3206" y="17785"/>
                  <a:pt x="3274" y="17785"/>
                </a:cubicBezTo>
                <a:cubicBezTo>
                  <a:pt x="3255" y="17927"/>
                  <a:pt x="3213" y="17929"/>
                  <a:pt x="3150" y="18033"/>
                </a:cubicBezTo>
                <a:cubicBezTo>
                  <a:pt x="3250" y="18060"/>
                  <a:pt x="3249" y="18060"/>
                  <a:pt x="3349" y="18033"/>
                </a:cubicBezTo>
              </a:path>
              <a:path w="3002" h="1638">
                <a:moveTo>
                  <a:pt x="3721" y="17686"/>
                </a:moveTo>
                <a:cubicBezTo>
                  <a:pt x="3641" y="17730"/>
                  <a:pt x="3591" y="17757"/>
                  <a:pt x="3547" y="17835"/>
                </a:cubicBezTo>
                <a:cubicBezTo>
                  <a:pt x="3667" y="17860"/>
                  <a:pt x="3722" y="17849"/>
                  <a:pt x="3770" y="17934"/>
                </a:cubicBezTo>
                <a:cubicBezTo>
                  <a:pt x="3708" y="18035"/>
                  <a:pt x="3666" y="18046"/>
                  <a:pt x="3547" y="18058"/>
                </a:cubicBezTo>
              </a:path>
              <a:path w="3002" h="1638">
                <a:moveTo>
                  <a:pt x="5085" y="17810"/>
                </a:moveTo>
                <a:cubicBezTo>
                  <a:pt x="5113" y="17904"/>
                  <a:pt x="5110" y="17981"/>
                  <a:pt x="5110" y="18083"/>
                </a:cubicBezTo>
                <a:cubicBezTo>
                  <a:pt x="5140" y="18082"/>
                  <a:pt x="5236" y="17981"/>
                  <a:pt x="5333" y="17959"/>
                </a:cubicBezTo>
                <a:cubicBezTo>
                  <a:pt x="5311" y="18122"/>
                  <a:pt x="5289" y="18130"/>
                  <a:pt x="5135" y="18182"/>
                </a:cubicBezTo>
              </a:path>
              <a:path w="3002" h="1638">
                <a:moveTo>
                  <a:pt x="5556" y="17711"/>
                </a:moveTo>
                <a:cubicBezTo>
                  <a:pt x="5624" y="17711"/>
                  <a:pt x="5643" y="17708"/>
                  <a:pt x="5680" y="17735"/>
                </a:cubicBezTo>
                <a:cubicBezTo>
                  <a:pt x="5645" y="17806"/>
                  <a:pt x="5500" y="17923"/>
                  <a:pt x="5581" y="17909"/>
                </a:cubicBezTo>
                <a:cubicBezTo>
                  <a:pt x="5614" y="17901"/>
                  <a:pt x="5647" y="17892"/>
                  <a:pt x="5680" y="17884"/>
                </a:cubicBezTo>
              </a:path>
              <a:path w="3002" h="1638">
                <a:moveTo>
                  <a:pt x="3547" y="18132"/>
                </a:moveTo>
                <a:cubicBezTo>
                  <a:pt x="3630" y="18132"/>
                  <a:pt x="3646" y="18132"/>
                  <a:pt x="3696" y="18132"/>
                </a:cubicBezTo>
                <a:cubicBezTo>
                  <a:pt x="3646" y="18305"/>
                  <a:pt x="3655" y="18348"/>
                  <a:pt x="3845" y="18281"/>
                </a:cubicBezTo>
                <a:cubicBezTo>
                  <a:pt x="3861" y="18273"/>
                  <a:pt x="3878" y="18264"/>
                  <a:pt x="3894" y="18256"/>
                </a:cubicBezTo>
              </a:path>
              <a:path w="3002" h="1638">
                <a:moveTo>
                  <a:pt x="3448" y="18182"/>
                </a:moveTo>
                <a:cubicBezTo>
                  <a:pt x="3540" y="18213"/>
                  <a:pt x="3499" y="18278"/>
                  <a:pt x="3448" y="18355"/>
                </a:cubicBezTo>
                <a:cubicBezTo>
                  <a:pt x="3538" y="18341"/>
                  <a:pt x="3608" y="18315"/>
                  <a:pt x="3696" y="182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84280" y="5902200"/>
            <a:ext cx="598680" cy="777960"/>
          </a:xfrm>
          <a:custGeom>
            <a:avLst/>
            <a:gdLst/>
            <a:ahLst/>
            <a:rect l="l" t="t" r="r" b="b"/>
            <a:pathLst>
              <a:path w="1663" h="2159">
                <a:moveTo>
                  <a:pt x="6970" y="16842"/>
                </a:moveTo>
                <a:cubicBezTo>
                  <a:pt x="7170" y="16866"/>
                  <a:pt x="7351" y="16971"/>
                  <a:pt x="7193" y="17214"/>
                </a:cubicBezTo>
                <a:cubicBezTo>
                  <a:pt x="7062" y="17324"/>
                  <a:pt x="7034" y="17361"/>
                  <a:pt x="6921" y="17363"/>
                </a:cubicBezTo>
                <a:cubicBezTo>
                  <a:pt x="6920" y="17263"/>
                  <a:pt x="7029" y="17154"/>
                  <a:pt x="7169" y="17190"/>
                </a:cubicBezTo>
                <a:cubicBezTo>
                  <a:pt x="7234" y="17233"/>
                  <a:pt x="7254" y="17239"/>
                  <a:pt x="7268" y="17289"/>
                </a:cubicBezTo>
              </a:path>
              <a:path w="1663" h="2159">
                <a:moveTo>
                  <a:pt x="7640" y="16743"/>
                </a:moveTo>
                <a:cubicBezTo>
                  <a:pt x="7554" y="16820"/>
                  <a:pt x="7530" y="16881"/>
                  <a:pt x="7491" y="16991"/>
                </a:cubicBezTo>
                <a:cubicBezTo>
                  <a:pt x="7586" y="17023"/>
                  <a:pt x="7716" y="16906"/>
                  <a:pt x="7813" y="17016"/>
                </a:cubicBezTo>
                <a:cubicBezTo>
                  <a:pt x="7947" y="17168"/>
                  <a:pt x="7701" y="17273"/>
                  <a:pt x="7590" y="17264"/>
                </a:cubicBezTo>
                <a:cubicBezTo>
                  <a:pt x="7557" y="17256"/>
                  <a:pt x="7524" y="17247"/>
                  <a:pt x="7491" y="17239"/>
                </a:cubicBezTo>
              </a:path>
              <a:path w="1663" h="2159">
                <a:moveTo>
                  <a:pt x="8062" y="16421"/>
                </a:moveTo>
                <a:cubicBezTo>
                  <a:pt x="8132" y="16414"/>
                  <a:pt x="8293" y="16340"/>
                  <a:pt x="8285" y="16446"/>
                </a:cubicBezTo>
                <a:cubicBezTo>
                  <a:pt x="8272" y="16615"/>
                  <a:pt x="8015" y="16680"/>
                  <a:pt x="8285" y="16644"/>
                </a:cubicBezTo>
              </a:path>
              <a:path w="1663" h="2159">
                <a:moveTo>
                  <a:pt x="7094" y="17587"/>
                </a:moveTo>
                <a:cubicBezTo>
                  <a:pt x="7037" y="17699"/>
                  <a:pt x="6952" y="17851"/>
                  <a:pt x="6995" y="17983"/>
                </a:cubicBezTo>
                <a:cubicBezTo>
                  <a:pt x="7048" y="18148"/>
                  <a:pt x="7284" y="18034"/>
                  <a:pt x="7342" y="17959"/>
                </a:cubicBezTo>
                <a:cubicBezTo>
                  <a:pt x="7364" y="17894"/>
                  <a:pt x="7372" y="17879"/>
                  <a:pt x="7367" y="17835"/>
                </a:cubicBezTo>
                <a:cubicBezTo>
                  <a:pt x="7257" y="17848"/>
                  <a:pt x="7175" y="17906"/>
                  <a:pt x="7169" y="18033"/>
                </a:cubicBezTo>
                <a:cubicBezTo>
                  <a:pt x="7177" y="18050"/>
                  <a:pt x="7185" y="18066"/>
                  <a:pt x="7193" y="18083"/>
                </a:cubicBezTo>
              </a:path>
              <a:path w="1663" h="2159">
                <a:moveTo>
                  <a:pt x="7565" y="17611"/>
                </a:moveTo>
                <a:cubicBezTo>
                  <a:pt x="7673" y="17657"/>
                  <a:pt x="7639" y="17757"/>
                  <a:pt x="7565" y="17859"/>
                </a:cubicBezTo>
                <a:cubicBezTo>
                  <a:pt x="7507" y="17917"/>
                  <a:pt x="7499" y="17926"/>
                  <a:pt x="7466" y="17959"/>
                </a:cubicBezTo>
                <a:cubicBezTo>
                  <a:pt x="7568" y="17954"/>
                  <a:pt x="7663" y="17943"/>
                  <a:pt x="7764" y="17934"/>
                </a:cubicBezTo>
              </a:path>
              <a:path w="1663" h="2159">
                <a:moveTo>
                  <a:pt x="7938" y="17611"/>
                </a:moveTo>
                <a:cubicBezTo>
                  <a:pt x="7918" y="17652"/>
                  <a:pt x="7909" y="17658"/>
                  <a:pt x="7913" y="17686"/>
                </a:cubicBezTo>
                <a:cubicBezTo>
                  <a:pt x="7985" y="17715"/>
                  <a:pt x="8161" y="17737"/>
                  <a:pt x="8062" y="17859"/>
                </a:cubicBezTo>
                <a:cubicBezTo>
                  <a:pt x="7990" y="17907"/>
                  <a:pt x="7969" y="17922"/>
                  <a:pt x="7913" y="17934"/>
                </a:cubicBezTo>
              </a:path>
              <a:path w="1663" h="2159">
                <a:moveTo>
                  <a:pt x="6623" y="18207"/>
                </a:moveTo>
                <a:cubicBezTo>
                  <a:pt x="6681" y="18207"/>
                  <a:pt x="6706" y="18207"/>
                  <a:pt x="6747" y="18207"/>
                </a:cubicBezTo>
              </a:path>
              <a:path w="1663" h="2159">
                <a:moveTo>
                  <a:pt x="7094" y="18182"/>
                </a:moveTo>
                <a:cubicBezTo>
                  <a:pt x="7211" y="18182"/>
                  <a:pt x="7341" y="18171"/>
                  <a:pt x="7193" y="18306"/>
                </a:cubicBezTo>
                <a:cubicBezTo>
                  <a:pt x="7168" y="18322"/>
                  <a:pt x="7144" y="18339"/>
                  <a:pt x="7119" y="18355"/>
                </a:cubicBezTo>
                <a:cubicBezTo>
                  <a:pt x="6968" y="18430"/>
                  <a:pt x="7319" y="18336"/>
                  <a:pt x="7342" y="18331"/>
                </a:cubicBezTo>
              </a:path>
              <a:path w="1663" h="2159">
                <a:moveTo>
                  <a:pt x="7615" y="18157"/>
                </a:moveTo>
                <a:cubicBezTo>
                  <a:pt x="7699" y="18136"/>
                  <a:pt x="7718" y="18134"/>
                  <a:pt x="7764" y="18107"/>
                </a:cubicBezTo>
                <a:cubicBezTo>
                  <a:pt x="7733" y="18231"/>
                  <a:pt x="7572" y="18284"/>
                  <a:pt x="7739" y="18306"/>
                </a:cubicBezTo>
                <a:cubicBezTo>
                  <a:pt x="7772" y="18306"/>
                  <a:pt x="7805" y="18306"/>
                  <a:pt x="7838" y="18306"/>
                </a:cubicBezTo>
              </a:path>
              <a:path w="1663" h="2159">
                <a:moveTo>
                  <a:pt x="7987" y="18083"/>
                </a:moveTo>
                <a:cubicBezTo>
                  <a:pt x="8094" y="18213"/>
                  <a:pt x="8182" y="18200"/>
                  <a:pt x="8037" y="18306"/>
                </a:cubicBezTo>
              </a:path>
              <a:path w="1663" h="2159">
                <a:moveTo>
                  <a:pt x="6796" y="18554"/>
                </a:moveTo>
                <a:cubicBezTo>
                  <a:pt x="7159" y="18446"/>
                  <a:pt x="7553" y="18355"/>
                  <a:pt x="7938" y="18355"/>
                </a:cubicBezTo>
                <a:cubicBezTo>
                  <a:pt x="8111" y="18374"/>
                  <a:pt x="8135" y="18383"/>
                  <a:pt x="8235" y="183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89720"/>
            <a:ext cx="1028520" cy="1189080"/>
          </a:xfrm>
          <a:custGeom>
            <a:avLst/>
            <a:gdLst/>
            <a:ahLst/>
            <a:rect l="l" t="t" r="r" b="b"/>
            <a:pathLst>
              <a:path w="2854" h="3300">
                <a:moveTo>
                  <a:pt x="9277" y="17711"/>
                </a:moveTo>
                <a:cubicBezTo>
                  <a:pt x="9254" y="17879"/>
                  <a:pt x="9277" y="18076"/>
                  <a:pt x="9277" y="18256"/>
                </a:cubicBezTo>
                <a:cubicBezTo>
                  <a:pt x="9360" y="18075"/>
                  <a:pt x="9342" y="18054"/>
                  <a:pt x="9525" y="18008"/>
                </a:cubicBezTo>
                <a:cubicBezTo>
                  <a:pt x="9590" y="18189"/>
                  <a:pt x="9526" y="18303"/>
                  <a:pt x="9302" y="18331"/>
                </a:cubicBezTo>
                <a:cubicBezTo>
                  <a:pt x="9285" y="18323"/>
                  <a:pt x="9269" y="18314"/>
                  <a:pt x="9252" y="18306"/>
                </a:cubicBezTo>
              </a:path>
              <a:path w="2854" h="3300">
                <a:moveTo>
                  <a:pt x="9699" y="17636"/>
                </a:moveTo>
                <a:cubicBezTo>
                  <a:pt x="9805" y="17628"/>
                  <a:pt x="9870" y="17634"/>
                  <a:pt x="9798" y="17760"/>
                </a:cubicBezTo>
                <a:cubicBezTo>
                  <a:pt x="9758" y="17820"/>
                  <a:pt x="9755" y="17832"/>
                  <a:pt x="9723" y="17859"/>
                </a:cubicBezTo>
                <a:cubicBezTo>
                  <a:pt x="9776" y="17859"/>
                  <a:pt x="9797" y="17853"/>
                  <a:pt x="9847" y="17835"/>
                </a:cubicBezTo>
              </a:path>
              <a:path w="2854" h="3300">
                <a:moveTo>
                  <a:pt x="10120" y="17884"/>
                </a:moveTo>
                <a:cubicBezTo>
                  <a:pt x="10186" y="17884"/>
                  <a:pt x="10203" y="17884"/>
                  <a:pt x="10244" y="17884"/>
                </a:cubicBezTo>
              </a:path>
              <a:path w="2854" h="3300">
                <a:moveTo>
                  <a:pt x="10815" y="17711"/>
                </a:moveTo>
                <a:cubicBezTo>
                  <a:pt x="10775" y="17869"/>
                  <a:pt x="10765" y="17994"/>
                  <a:pt x="10765" y="18157"/>
                </a:cubicBezTo>
              </a:path>
              <a:path w="2854" h="3300">
                <a:moveTo>
                  <a:pt x="10567" y="17661"/>
                </a:moveTo>
                <a:cubicBezTo>
                  <a:pt x="10510" y="17604"/>
                  <a:pt x="10505" y="17780"/>
                  <a:pt x="10468" y="17884"/>
                </a:cubicBezTo>
                <a:cubicBezTo>
                  <a:pt x="10582" y="17898"/>
                  <a:pt x="10673" y="17891"/>
                  <a:pt x="10790" y="17884"/>
                </a:cubicBezTo>
              </a:path>
              <a:path w="2854" h="3300">
                <a:moveTo>
                  <a:pt x="10120" y="18579"/>
                </a:moveTo>
                <a:cubicBezTo>
                  <a:pt x="10161" y="18646"/>
                  <a:pt x="10204" y="18710"/>
                  <a:pt x="10244" y="18777"/>
                </a:cubicBezTo>
                <a:cubicBezTo>
                  <a:pt x="10308" y="18595"/>
                  <a:pt x="10316" y="18516"/>
                  <a:pt x="10269" y="18331"/>
                </a:cubicBezTo>
                <a:cubicBezTo>
                  <a:pt x="10527" y="18331"/>
                  <a:pt x="10781" y="18319"/>
                  <a:pt x="11038" y="18306"/>
                </a:cubicBezTo>
                <a:cubicBezTo>
                  <a:pt x="11133" y="18301"/>
                  <a:pt x="11196" y="18318"/>
                  <a:pt x="11286" y="18331"/>
                </a:cubicBezTo>
              </a:path>
              <a:path w="2854" h="3300">
                <a:moveTo>
                  <a:pt x="10567" y="18479"/>
                </a:moveTo>
                <a:cubicBezTo>
                  <a:pt x="10560" y="18539"/>
                  <a:pt x="10555" y="18557"/>
                  <a:pt x="10517" y="18604"/>
                </a:cubicBezTo>
                <a:cubicBezTo>
                  <a:pt x="10615" y="18632"/>
                  <a:pt x="10663" y="18623"/>
                  <a:pt x="10765" y="18604"/>
                </a:cubicBezTo>
              </a:path>
              <a:path w="2854" h="3300">
                <a:moveTo>
                  <a:pt x="10790" y="18479"/>
                </a:moveTo>
                <a:cubicBezTo>
                  <a:pt x="10753" y="18598"/>
                  <a:pt x="10718" y="18713"/>
                  <a:pt x="10666" y="18827"/>
                </a:cubicBezTo>
              </a:path>
              <a:path w="2854" h="3300">
                <a:moveTo>
                  <a:pt x="11038" y="18504"/>
                </a:moveTo>
                <a:cubicBezTo>
                  <a:pt x="10922" y="18569"/>
                  <a:pt x="10902" y="18594"/>
                  <a:pt x="10889" y="18728"/>
                </a:cubicBezTo>
                <a:cubicBezTo>
                  <a:pt x="11012" y="18728"/>
                  <a:pt x="11094" y="18734"/>
                  <a:pt x="11137" y="18604"/>
                </a:cubicBezTo>
                <a:cubicBezTo>
                  <a:pt x="11137" y="18541"/>
                  <a:pt x="11126" y="18517"/>
                  <a:pt x="11063" y="18504"/>
                </a:cubicBezTo>
              </a:path>
              <a:path w="2854" h="3300">
                <a:moveTo>
                  <a:pt x="11361" y="18455"/>
                </a:moveTo>
                <a:cubicBezTo>
                  <a:pt x="11321" y="18546"/>
                  <a:pt x="11296" y="18605"/>
                  <a:pt x="11286" y="18703"/>
                </a:cubicBezTo>
                <a:cubicBezTo>
                  <a:pt x="11370" y="18670"/>
                  <a:pt x="11570" y="18614"/>
                  <a:pt x="11460" y="18504"/>
                </a:cubicBezTo>
              </a:path>
              <a:path w="2854" h="3300">
                <a:moveTo>
                  <a:pt x="9500" y="15999"/>
                </a:moveTo>
                <a:cubicBezTo>
                  <a:pt x="9540" y="16172"/>
                  <a:pt x="9525" y="16362"/>
                  <a:pt x="9525" y="16545"/>
                </a:cubicBezTo>
                <a:cubicBezTo>
                  <a:pt x="9525" y="16561"/>
                  <a:pt x="9525" y="16578"/>
                  <a:pt x="9525" y="16594"/>
                </a:cubicBezTo>
                <a:cubicBezTo>
                  <a:pt x="9536" y="16426"/>
                  <a:pt x="9531" y="16239"/>
                  <a:pt x="9699" y="16148"/>
                </a:cubicBezTo>
                <a:cubicBezTo>
                  <a:pt x="9715" y="16148"/>
                  <a:pt x="9732" y="16148"/>
                  <a:pt x="9748" y="16148"/>
                </a:cubicBezTo>
                <a:cubicBezTo>
                  <a:pt x="9793" y="16281"/>
                  <a:pt x="9861" y="16474"/>
                  <a:pt x="9699" y="16570"/>
                </a:cubicBezTo>
                <a:cubicBezTo>
                  <a:pt x="9608" y="16592"/>
                  <a:pt x="9585" y="16600"/>
                  <a:pt x="9525" y="16594"/>
                </a:cubicBezTo>
              </a:path>
              <a:path w="2854" h="3300">
                <a:moveTo>
                  <a:pt x="9971" y="16173"/>
                </a:moveTo>
                <a:cubicBezTo>
                  <a:pt x="10048" y="16164"/>
                  <a:pt x="10118" y="16144"/>
                  <a:pt x="10195" y="16123"/>
                </a:cubicBezTo>
              </a:path>
              <a:path w="2854" h="3300">
                <a:moveTo>
                  <a:pt x="10641" y="16098"/>
                </a:moveTo>
                <a:cubicBezTo>
                  <a:pt x="10673" y="16015"/>
                  <a:pt x="10726" y="15971"/>
                  <a:pt x="10815" y="15949"/>
                </a:cubicBezTo>
                <a:cubicBezTo>
                  <a:pt x="10869" y="16113"/>
                  <a:pt x="10832" y="16179"/>
                  <a:pt x="10716" y="16321"/>
                </a:cubicBezTo>
                <a:cubicBezTo>
                  <a:pt x="10623" y="16414"/>
                  <a:pt x="10599" y="16442"/>
                  <a:pt x="10517" y="16470"/>
                </a:cubicBezTo>
                <a:cubicBezTo>
                  <a:pt x="10481" y="16577"/>
                  <a:pt x="10614" y="16387"/>
                  <a:pt x="10666" y="16396"/>
                </a:cubicBezTo>
                <a:cubicBezTo>
                  <a:pt x="10838" y="16425"/>
                  <a:pt x="10807" y="16526"/>
                  <a:pt x="10988" y="16421"/>
                </a:cubicBezTo>
              </a:path>
              <a:path w="2854" h="3300">
                <a:moveTo>
                  <a:pt x="11212" y="16024"/>
                </a:moveTo>
                <a:cubicBezTo>
                  <a:pt x="11100" y="16159"/>
                  <a:pt x="11050" y="16248"/>
                  <a:pt x="11038" y="16421"/>
                </a:cubicBezTo>
                <a:cubicBezTo>
                  <a:pt x="11038" y="16437"/>
                  <a:pt x="11038" y="16454"/>
                  <a:pt x="11038" y="16470"/>
                </a:cubicBezTo>
                <a:cubicBezTo>
                  <a:pt x="11225" y="16504"/>
                  <a:pt x="11380" y="16390"/>
                  <a:pt x="11385" y="16173"/>
                </a:cubicBezTo>
                <a:cubicBezTo>
                  <a:pt x="11388" y="16036"/>
                  <a:pt x="11269" y="16055"/>
                  <a:pt x="11187" y="16049"/>
                </a:cubicBezTo>
              </a:path>
              <a:path w="2854" h="3300">
                <a:moveTo>
                  <a:pt x="9203" y="15751"/>
                </a:moveTo>
                <a:cubicBezTo>
                  <a:pt x="9203" y="16064"/>
                  <a:pt x="9209" y="16359"/>
                  <a:pt x="9153" y="16669"/>
                </a:cubicBezTo>
                <a:cubicBezTo>
                  <a:pt x="9112" y="16833"/>
                  <a:pt x="9095" y="16864"/>
                  <a:pt x="9103" y="16966"/>
                </a:cubicBezTo>
                <a:cubicBezTo>
                  <a:pt x="9302" y="16982"/>
                  <a:pt x="9465" y="16942"/>
                  <a:pt x="9674" y="16917"/>
                </a:cubicBezTo>
                <a:cubicBezTo>
                  <a:pt x="10099" y="16867"/>
                  <a:pt x="10538" y="16880"/>
                  <a:pt x="10964" y="16917"/>
                </a:cubicBezTo>
                <a:cubicBezTo>
                  <a:pt x="11139" y="16932"/>
                  <a:pt x="11312" y="16953"/>
                  <a:pt x="11485" y="16966"/>
                </a:cubicBezTo>
                <a:cubicBezTo>
                  <a:pt x="11526" y="16969"/>
                  <a:pt x="11568" y="16966"/>
                  <a:pt x="11609" y="16966"/>
                </a:cubicBezTo>
                <a:cubicBezTo>
                  <a:pt x="11665" y="16671"/>
                  <a:pt x="11753" y="16388"/>
                  <a:pt x="11832" y="16098"/>
                </a:cubicBezTo>
                <a:cubicBezTo>
                  <a:pt x="11883" y="15909"/>
                  <a:pt x="11923" y="15719"/>
                  <a:pt x="11956" y="15528"/>
                </a:cubicBezTo>
                <a:cubicBezTo>
                  <a:pt x="11758" y="15551"/>
                  <a:pt x="11567" y="15617"/>
                  <a:pt x="11361" y="15627"/>
                </a:cubicBezTo>
                <a:cubicBezTo>
                  <a:pt x="11070" y="15641"/>
                  <a:pt x="10779" y="15569"/>
                  <a:pt x="10492" y="15577"/>
                </a:cubicBezTo>
                <a:cubicBezTo>
                  <a:pt x="10236" y="15584"/>
                  <a:pt x="9980" y="15620"/>
                  <a:pt x="9723" y="15627"/>
                </a:cubicBezTo>
                <a:cubicBezTo>
                  <a:pt x="9629" y="15629"/>
                  <a:pt x="9566" y="15666"/>
                  <a:pt x="9475" y="15677"/>
                </a:cubicBezTo>
                <a:cubicBezTo>
                  <a:pt x="9282" y="15701"/>
                  <a:pt x="9382" y="15864"/>
                  <a:pt x="9401" y="160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2000" y="5116680"/>
            <a:ext cx="1268280" cy="1349280"/>
          </a:xfrm>
          <a:custGeom>
            <a:avLst/>
            <a:gdLst/>
            <a:ahLst/>
            <a:rect l="l" t="t" r="r" b="b"/>
            <a:pathLst>
              <a:path w="3524" h="3747">
                <a:moveTo>
                  <a:pt x="16470" y="16049"/>
                </a:moveTo>
                <a:cubicBezTo>
                  <a:pt x="16502" y="16200"/>
                  <a:pt x="16520" y="16340"/>
                  <a:pt x="16520" y="16495"/>
                </a:cubicBezTo>
              </a:path>
              <a:path w="3524" h="3747">
                <a:moveTo>
                  <a:pt x="16694" y="15974"/>
                </a:moveTo>
                <a:cubicBezTo>
                  <a:pt x="16846" y="16019"/>
                  <a:pt x="17041" y="16054"/>
                  <a:pt x="17066" y="16247"/>
                </a:cubicBezTo>
                <a:cubicBezTo>
                  <a:pt x="17089" y="16418"/>
                  <a:pt x="16954" y="16430"/>
                  <a:pt x="16842" y="16396"/>
                </a:cubicBezTo>
                <a:cubicBezTo>
                  <a:pt x="16865" y="16293"/>
                  <a:pt x="16917" y="16205"/>
                  <a:pt x="17041" y="16272"/>
                </a:cubicBezTo>
                <a:cubicBezTo>
                  <a:pt x="17092" y="16300"/>
                  <a:pt x="17105" y="16347"/>
                  <a:pt x="17115" y="16396"/>
                </a:cubicBezTo>
              </a:path>
              <a:path w="3524" h="3747">
                <a:moveTo>
                  <a:pt x="17413" y="15850"/>
                </a:moveTo>
                <a:cubicBezTo>
                  <a:pt x="17353" y="15910"/>
                  <a:pt x="17270" y="15955"/>
                  <a:pt x="17289" y="16049"/>
                </a:cubicBezTo>
                <a:cubicBezTo>
                  <a:pt x="17297" y="16065"/>
                  <a:pt x="17306" y="16082"/>
                  <a:pt x="17314" y="16098"/>
                </a:cubicBezTo>
                <a:cubicBezTo>
                  <a:pt x="17435" y="16049"/>
                  <a:pt x="17543" y="16000"/>
                  <a:pt x="17636" y="16123"/>
                </a:cubicBezTo>
                <a:cubicBezTo>
                  <a:pt x="17759" y="16286"/>
                  <a:pt x="17408" y="16405"/>
                  <a:pt x="17388" y="16371"/>
                </a:cubicBezTo>
                <a:cubicBezTo>
                  <a:pt x="17396" y="16330"/>
                  <a:pt x="17405" y="16288"/>
                  <a:pt x="17413" y="16247"/>
                </a:cubicBezTo>
              </a:path>
              <a:path w="3524" h="3747">
                <a:moveTo>
                  <a:pt x="18182" y="15949"/>
                </a:moveTo>
                <a:cubicBezTo>
                  <a:pt x="18306" y="15922"/>
                  <a:pt x="18430" y="15899"/>
                  <a:pt x="18554" y="15875"/>
                </a:cubicBezTo>
              </a:path>
              <a:path w="3524" h="3747">
                <a:moveTo>
                  <a:pt x="18281" y="16098"/>
                </a:moveTo>
                <a:cubicBezTo>
                  <a:pt x="18384" y="16070"/>
                  <a:pt x="18494" y="16063"/>
                  <a:pt x="18604" y="16049"/>
                </a:cubicBezTo>
              </a:path>
              <a:path w="3524" h="3747">
                <a:moveTo>
                  <a:pt x="19174" y="15627"/>
                </a:moveTo>
                <a:cubicBezTo>
                  <a:pt x="19216" y="15690"/>
                  <a:pt x="19233" y="15728"/>
                  <a:pt x="19224" y="15652"/>
                </a:cubicBezTo>
                <a:cubicBezTo>
                  <a:pt x="19082" y="15534"/>
                  <a:pt x="18993" y="15848"/>
                  <a:pt x="19025" y="15974"/>
                </a:cubicBezTo>
                <a:cubicBezTo>
                  <a:pt x="19081" y="16195"/>
                  <a:pt x="19323" y="16092"/>
                  <a:pt x="19472" y="16073"/>
                </a:cubicBezTo>
              </a:path>
              <a:path w="3524" h="3747">
                <a:moveTo>
                  <a:pt x="15949" y="14288"/>
                </a:moveTo>
                <a:cubicBezTo>
                  <a:pt x="16027" y="14236"/>
                  <a:pt x="16056" y="14218"/>
                  <a:pt x="16123" y="14213"/>
                </a:cubicBezTo>
                <a:cubicBezTo>
                  <a:pt x="16130" y="14409"/>
                  <a:pt x="16069" y="14524"/>
                  <a:pt x="16049" y="14709"/>
                </a:cubicBezTo>
                <a:cubicBezTo>
                  <a:pt x="16049" y="14726"/>
                  <a:pt x="16049" y="14742"/>
                  <a:pt x="16049" y="14759"/>
                </a:cubicBezTo>
                <a:cubicBezTo>
                  <a:pt x="16165" y="14729"/>
                  <a:pt x="16284" y="14681"/>
                  <a:pt x="16396" y="14635"/>
                </a:cubicBezTo>
              </a:path>
              <a:path w="3524" h="3747">
                <a:moveTo>
                  <a:pt x="16346" y="16148"/>
                </a:moveTo>
                <a:cubicBezTo>
                  <a:pt x="16380" y="16054"/>
                  <a:pt x="16342" y="16060"/>
                  <a:pt x="16470" y="16024"/>
                </a:cubicBezTo>
                <a:cubicBezTo>
                  <a:pt x="16480" y="16197"/>
                  <a:pt x="16430" y="16310"/>
                  <a:pt x="16371" y="16470"/>
                </a:cubicBezTo>
                <a:cubicBezTo>
                  <a:pt x="16371" y="16478"/>
                  <a:pt x="16371" y="16487"/>
                  <a:pt x="16371" y="16495"/>
                </a:cubicBezTo>
                <a:cubicBezTo>
                  <a:pt x="16491" y="16475"/>
                  <a:pt x="16597" y="16415"/>
                  <a:pt x="16718" y="16371"/>
                </a:cubicBezTo>
              </a:path>
              <a:path w="3524" h="3747">
                <a:moveTo>
                  <a:pt x="16644" y="17338"/>
                </a:moveTo>
                <a:cubicBezTo>
                  <a:pt x="16758" y="17256"/>
                  <a:pt x="16797" y="17248"/>
                  <a:pt x="16942" y="17239"/>
                </a:cubicBezTo>
                <a:cubicBezTo>
                  <a:pt x="16983" y="17421"/>
                  <a:pt x="16933" y="17491"/>
                  <a:pt x="16818" y="17636"/>
                </a:cubicBezTo>
                <a:cubicBezTo>
                  <a:pt x="16927" y="17592"/>
                  <a:pt x="17054" y="17552"/>
                  <a:pt x="17016" y="17735"/>
                </a:cubicBezTo>
                <a:cubicBezTo>
                  <a:pt x="16988" y="17872"/>
                  <a:pt x="16867" y="18015"/>
                  <a:pt x="16718" y="17934"/>
                </a:cubicBezTo>
                <a:cubicBezTo>
                  <a:pt x="16718" y="17901"/>
                  <a:pt x="16718" y="17884"/>
                  <a:pt x="16718" y="17859"/>
                </a:cubicBezTo>
              </a:path>
              <a:path w="3524" h="3747">
                <a:moveTo>
                  <a:pt x="17438" y="17140"/>
                </a:moveTo>
                <a:cubicBezTo>
                  <a:pt x="17307" y="17189"/>
                  <a:pt x="17328" y="17127"/>
                  <a:pt x="17264" y="17264"/>
                </a:cubicBezTo>
                <a:cubicBezTo>
                  <a:pt x="17229" y="17339"/>
                  <a:pt x="17161" y="17414"/>
                  <a:pt x="17214" y="17487"/>
                </a:cubicBezTo>
                <a:cubicBezTo>
                  <a:pt x="17293" y="17475"/>
                  <a:pt x="17462" y="17384"/>
                  <a:pt x="17537" y="17462"/>
                </a:cubicBezTo>
                <a:cubicBezTo>
                  <a:pt x="17682" y="17613"/>
                  <a:pt x="17458" y="17723"/>
                  <a:pt x="17338" y="17760"/>
                </a:cubicBezTo>
                <a:cubicBezTo>
                  <a:pt x="17322" y="17760"/>
                  <a:pt x="17305" y="17760"/>
                  <a:pt x="17289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0880" y="5554800"/>
            <a:ext cx="171360" cy="25848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5060" y="15429"/>
                </a:moveTo>
                <a:cubicBezTo>
                  <a:pt x="5082" y="15635"/>
                  <a:pt x="5128" y="15841"/>
                  <a:pt x="5159" y="16049"/>
                </a:cubicBezTo>
                <a:cubicBezTo>
                  <a:pt x="5159" y="15992"/>
                  <a:pt x="5164" y="15744"/>
                  <a:pt x="5333" y="15677"/>
                </a:cubicBezTo>
                <a:cubicBezTo>
                  <a:pt x="5374" y="15677"/>
                  <a:pt x="5416" y="15677"/>
                  <a:pt x="5457" y="15677"/>
                </a:cubicBezTo>
                <a:cubicBezTo>
                  <a:pt x="5545" y="15854"/>
                  <a:pt x="5578" y="16035"/>
                  <a:pt x="5333" y="16123"/>
                </a:cubicBezTo>
                <a:cubicBezTo>
                  <a:pt x="5201" y="16142"/>
                  <a:pt x="5185" y="16150"/>
                  <a:pt x="5110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2960" y="4429080"/>
            <a:ext cx="22392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8558" y="12303"/>
                </a:moveTo>
                <a:cubicBezTo>
                  <a:pt x="8574" y="12336"/>
                  <a:pt x="8591" y="12369"/>
                  <a:pt x="8607" y="12402"/>
                </a:cubicBezTo>
                <a:cubicBezTo>
                  <a:pt x="8662" y="12404"/>
                  <a:pt x="8522" y="12248"/>
                  <a:pt x="8434" y="12328"/>
                </a:cubicBezTo>
                <a:cubicBezTo>
                  <a:pt x="8237" y="12507"/>
                  <a:pt x="8202" y="12884"/>
                  <a:pt x="8558" y="12849"/>
                </a:cubicBezTo>
                <a:cubicBezTo>
                  <a:pt x="8747" y="12786"/>
                  <a:pt x="8785" y="12767"/>
                  <a:pt x="8905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9960" y="3178080"/>
            <a:ext cx="152280" cy="100080"/>
          </a:xfrm>
          <a:custGeom>
            <a:avLst/>
            <a:gdLst/>
            <a:ahLst/>
            <a:rect l="l" t="t" r="r" b="b"/>
            <a:pathLst>
              <a:path w="422" h="274">
                <a:moveTo>
                  <a:pt x="20662" y="8930"/>
                </a:moveTo>
                <a:cubicBezTo>
                  <a:pt x="20639" y="8988"/>
                  <a:pt x="20622" y="9040"/>
                  <a:pt x="20613" y="9103"/>
                </a:cubicBezTo>
                <a:cubicBezTo>
                  <a:pt x="20625" y="9054"/>
                  <a:pt x="20650" y="8762"/>
                  <a:pt x="20762" y="8880"/>
                </a:cubicBezTo>
                <a:cubicBezTo>
                  <a:pt x="20800" y="8957"/>
                  <a:pt x="20799" y="8972"/>
                  <a:pt x="20836" y="9004"/>
                </a:cubicBezTo>
                <a:cubicBezTo>
                  <a:pt x="20836" y="8920"/>
                  <a:pt x="20838" y="8886"/>
                  <a:pt x="20861" y="8830"/>
                </a:cubicBezTo>
                <a:cubicBezTo>
                  <a:pt x="20958" y="8920"/>
                  <a:pt x="20990" y="8977"/>
                  <a:pt x="21034" y="91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43920" y="3054240"/>
            <a:ext cx="635040" cy="303480"/>
          </a:xfrm>
          <a:custGeom>
            <a:avLst/>
            <a:gdLst/>
            <a:ahLst/>
            <a:rect l="l" t="t" r="r" b="b"/>
            <a:pathLst>
              <a:path w="1762" h="845">
                <a:moveTo>
                  <a:pt x="22622" y="8756"/>
                </a:moveTo>
                <a:cubicBezTo>
                  <a:pt x="22744" y="8643"/>
                  <a:pt x="22769" y="8616"/>
                  <a:pt x="22920" y="8607"/>
                </a:cubicBezTo>
                <a:cubicBezTo>
                  <a:pt x="22919" y="8782"/>
                  <a:pt x="22897" y="8827"/>
                  <a:pt x="22796" y="8979"/>
                </a:cubicBezTo>
                <a:cubicBezTo>
                  <a:pt x="22940" y="8907"/>
                  <a:pt x="23167" y="9000"/>
                  <a:pt x="22994" y="9203"/>
                </a:cubicBezTo>
                <a:cubicBezTo>
                  <a:pt x="22866" y="9354"/>
                  <a:pt x="22672" y="9392"/>
                  <a:pt x="22671" y="9203"/>
                </a:cubicBezTo>
              </a:path>
              <a:path w="1762" h="845">
                <a:moveTo>
                  <a:pt x="23540" y="8483"/>
                </a:moveTo>
                <a:cubicBezTo>
                  <a:pt x="23449" y="8526"/>
                  <a:pt x="23309" y="8539"/>
                  <a:pt x="23267" y="8632"/>
                </a:cubicBezTo>
                <a:cubicBezTo>
                  <a:pt x="23246" y="8716"/>
                  <a:pt x="23244" y="8735"/>
                  <a:pt x="23217" y="8781"/>
                </a:cubicBezTo>
                <a:cubicBezTo>
                  <a:pt x="23360" y="8771"/>
                  <a:pt x="23573" y="8694"/>
                  <a:pt x="23688" y="8830"/>
                </a:cubicBezTo>
                <a:cubicBezTo>
                  <a:pt x="23876" y="9053"/>
                  <a:pt x="23570" y="9220"/>
                  <a:pt x="23391" y="9227"/>
                </a:cubicBezTo>
                <a:cubicBezTo>
                  <a:pt x="23341" y="9219"/>
                  <a:pt x="23292" y="9211"/>
                  <a:pt x="23242" y="9203"/>
                </a:cubicBezTo>
              </a:path>
              <a:path w="1762" h="845">
                <a:moveTo>
                  <a:pt x="23937" y="8930"/>
                </a:moveTo>
                <a:cubicBezTo>
                  <a:pt x="23963" y="9039"/>
                  <a:pt x="23975" y="9082"/>
                  <a:pt x="24011" y="9153"/>
                </a:cubicBezTo>
                <a:cubicBezTo>
                  <a:pt x="24011" y="9272"/>
                  <a:pt x="23987" y="8957"/>
                  <a:pt x="24085" y="8930"/>
                </a:cubicBezTo>
                <a:cubicBezTo>
                  <a:pt x="24224" y="8892"/>
                  <a:pt x="24203" y="9122"/>
                  <a:pt x="24209" y="9178"/>
                </a:cubicBezTo>
                <a:cubicBezTo>
                  <a:pt x="24051" y="9243"/>
                  <a:pt x="24153" y="8996"/>
                  <a:pt x="24209" y="8930"/>
                </a:cubicBezTo>
                <a:cubicBezTo>
                  <a:pt x="24234" y="8913"/>
                  <a:pt x="24259" y="8897"/>
                  <a:pt x="24284" y="8880"/>
                </a:cubicBezTo>
                <a:cubicBezTo>
                  <a:pt x="24384" y="9002"/>
                  <a:pt x="24383" y="9085"/>
                  <a:pt x="24383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4040" y="3643200"/>
            <a:ext cx="216000" cy="169920"/>
          </a:xfrm>
          <a:custGeom>
            <a:avLst/>
            <a:gdLst/>
            <a:ahLst/>
            <a:rect l="l" t="t" r="r" b="b"/>
            <a:pathLst>
              <a:path w="597" h="473">
                <a:moveTo>
                  <a:pt x="14213" y="10344"/>
                </a:moveTo>
                <a:cubicBezTo>
                  <a:pt x="14182" y="10207"/>
                  <a:pt x="14158" y="10199"/>
                  <a:pt x="14039" y="10120"/>
                </a:cubicBezTo>
                <a:cubicBezTo>
                  <a:pt x="13911" y="10192"/>
                  <a:pt x="13631" y="10449"/>
                  <a:pt x="13891" y="10592"/>
                </a:cubicBezTo>
                <a:cubicBezTo>
                  <a:pt x="14132" y="10725"/>
                  <a:pt x="14219" y="10327"/>
                  <a:pt x="14238" y="10195"/>
                </a:cubicBezTo>
                <a:cubicBezTo>
                  <a:pt x="14277" y="10381"/>
                  <a:pt x="14272" y="10426"/>
                  <a:pt x="14387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80040" y="3544920"/>
            <a:ext cx="61920" cy="135000"/>
          </a:xfrm>
          <a:custGeom>
            <a:avLst/>
            <a:gdLst/>
            <a:ahLst/>
            <a:rect l="l" t="t" r="r" b="b"/>
            <a:pathLst>
              <a:path w="174" h="374">
                <a:moveTo>
                  <a:pt x="14387" y="9847"/>
                </a:moveTo>
                <a:cubicBezTo>
                  <a:pt x="14577" y="9847"/>
                  <a:pt x="14590" y="9894"/>
                  <a:pt x="14486" y="10071"/>
                </a:cubicBezTo>
                <a:cubicBezTo>
                  <a:pt x="14396" y="10224"/>
                  <a:pt x="14321" y="10220"/>
                  <a:pt x="14560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61000" y="3527280"/>
            <a:ext cx="179280" cy="250920"/>
          </a:xfrm>
          <a:custGeom>
            <a:avLst/>
            <a:gdLst/>
            <a:ahLst/>
            <a:rect l="l" t="t" r="r" b="b"/>
            <a:pathLst>
              <a:path w="497" h="695">
                <a:moveTo>
                  <a:pt x="15726" y="9798"/>
                </a:moveTo>
                <a:cubicBezTo>
                  <a:pt x="15746" y="10001"/>
                  <a:pt x="15789" y="10195"/>
                  <a:pt x="15825" y="10393"/>
                </a:cubicBezTo>
                <a:cubicBezTo>
                  <a:pt x="15825" y="10410"/>
                  <a:pt x="15825" y="10426"/>
                  <a:pt x="15825" y="10443"/>
                </a:cubicBezTo>
                <a:cubicBezTo>
                  <a:pt x="15848" y="10328"/>
                  <a:pt x="15882" y="10117"/>
                  <a:pt x="16049" y="10145"/>
                </a:cubicBezTo>
                <a:cubicBezTo>
                  <a:pt x="16237" y="10177"/>
                  <a:pt x="16291" y="10467"/>
                  <a:pt x="16073" y="10492"/>
                </a:cubicBezTo>
                <a:cubicBezTo>
                  <a:pt x="16024" y="10484"/>
                  <a:pt x="15974" y="10476"/>
                  <a:pt x="15925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11920" y="3510000"/>
            <a:ext cx="115920" cy="1062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16421" y="9773"/>
                </a:moveTo>
                <a:cubicBezTo>
                  <a:pt x="16486" y="9751"/>
                  <a:pt x="16501" y="9743"/>
                  <a:pt x="16545" y="9748"/>
                </a:cubicBezTo>
                <a:cubicBezTo>
                  <a:pt x="16511" y="9837"/>
                  <a:pt x="16448" y="9926"/>
                  <a:pt x="16421" y="10021"/>
                </a:cubicBezTo>
                <a:cubicBezTo>
                  <a:pt x="16570" y="10051"/>
                  <a:pt x="16637" y="10053"/>
                  <a:pt x="16743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43760" y="3606840"/>
            <a:ext cx="6336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7066" y="10021"/>
                </a:moveTo>
                <a:cubicBezTo>
                  <a:pt x="17149" y="10021"/>
                  <a:pt x="17183" y="10023"/>
                  <a:pt x="17239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61040" y="3679920"/>
            <a:ext cx="54000" cy="7920"/>
          </a:xfrm>
          <a:custGeom>
            <a:avLst/>
            <a:gdLst/>
            <a:ahLst/>
            <a:rect l="l" t="t" r="r" b="b"/>
            <a:pathLst>
              <a:path w="150" h="25">
                <a:moveTo>
                  <a:pt x="17115" y="10244"/>
                </a:moveTo>
                <a:cubicBezTo>
                  <a:pt x="17165" y="10236"/>
                  <a:pt x="17214" y="10228"/>
                  <a:pt x="17264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4960" y="3598920"/>
            <a:ext cx="187200" cy="16992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18033" y="10120"/>
                </a:moveTo>
                <a:cubicBezTo>
                  <a:pt x="18025" y="10087"/>
                  <a:pt x="18016" y="10054"/>
                  <a:pt x="18008" y="10021"/>
                </a:cubicBezTo>
                <a:cubicBezTo>
                  <a:pt x="17888" y="10035"/>
                  <a:pt x="17532" y="10296"/>
                  <a:pt x="17810" y="10443"/>
                </a:cubicBezTo>
                <a:cubicBezTo>
                  <a:pt x="18046" y="10467"/>
                  <a:pt x="18117" y="10480"/>
                  <a:pt x="18256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3160" y="3473280"/>
            <a:ext cx="11592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8479" y="9674"/>
                </a:moveTo>
                <a:cubicBezTo>
                  <a:pt x="18573" y="9652"/>
                  <a:pt x="18774" y="9599"/>
                  <a:pt x="18653" y="9798"/>
                </a:cubicBezTo>
                <a:cubicBezTo>
                  <a:pt x="18517" y="10021"/>
                  <a:pt x="18498" y="9960"/>
                  <a:pt x="18802" y="99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75120" y="4133880"/>
            <a:ext cx="169920" cy="233280"/>
          </a:xfrm>
          <a:custGeom>
            <a:avLst/>
            <a:gdLst/>
            <a:ahLst/>
            <a:rect l="l" t="t" r="r" b="b"/>
            <a:pathLst>
              <a:path w="473" h="645">
                <a:moveTo>
                  <a:pt x="13568" y="11509"/>
                </a:moveTo>
                <a:cubicBezTo>
                  <a:pt x="13677" y="11502"/>
                  <a:pt x="13782" y="11490"/>
                  <a:pt x="13891" y="11485"/>
                </a:cubicBezTo>
                <a:cubicBezTo>
                  <a:pt x="13931" y="11744"/>
                  <a:pt x="13774" y="11877"/>
                  <a:pt x="13593" y="12080"/>
                </a:cubicBezTo>
                <a:cubicBezTo>
                  <a:pt x="13576" y="12096"/>
                  <a:pt x="13560" y="12113"/>
                  <a:pt x="13543" y="12129"/>
                </a:cubicBezTo>
                <a:cubicBezTo>
                  <a:pt x="13699" y="12091"/>
                  <a:pt x="13859" y="12072"/>
                  <a:pt x="14015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26040" y="4133880"/>
            <a:ext cx="54000" cy="206280"/>
          </a:xfrm>
          <a:custGeom>
            <a:avLst/>
            <a:gdLst/>
            <a:ahLst/>
            <a:rect l="l" t="t" r="r" b="b"/>
            <a:pathLst>
              <a:path w="150" h="571">
                <a:moveTo>
                  <a:pt x="14238" y="11485"/>
                </a:moveTo>
                <a:cubicBezTo>
                  <a:pt x="14304" y="11665"/>
                  <a:pt x="14351" y="11843"/>
                  <a:pt x="14387" y="12030"/>
                </a:cubicBezTo>
                <a:cubicBezTo>
                  <a:pt x="14387" y="12038"/>
                  <a:pt x="14387" y="12047"/>
                  <a:pt x="14387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97320" y="4017960"/>
            <a:ext cx="88920" cy="11736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14461" y="11187"/>
                </a:moveTo>
                <a:cubicBezTo>
                  <a:pt x="14560" y="11167"/>
                  <a:pt x="14576" y="11159"/>
                  <a:pt x="14635" y="11162"/>
                </a:cubicBezTo>
                <a:cubicBezTo>
                  <a:pt x="14588" y="11255"/>
                  <a:pt x="14364" y="11494"/>
                  <a:pt x="14511" y="11485"/>
                </a:cubicBezTo>
                <a:cubicBezTo>
                  <a:pt x="14612" y="11465"/>
                  <a:pt x="14632" y="11467"/>
                  <a:pt x="14684" y="114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40280" y="4054320"/>
            <a:ext cx="169920" cy="223920"/>
          </a:xfrm>
          <a:custGeom>
            <a:avLst/>
            <a:gdLst/>
            <a:ahLst/>
            <a:rect l="l" t="t" r="r" b="b"/>
            <a:pathLst>
              <a:path w="473" h="621">
                <a:moveTo>
                  <a:pt x="16272" y="11336"/>
                </a:moveTo>
                <a:cubicBezTo>
                  <a:pt x="16352" y="11300"/>
                  <a:pt x="16453" y="11282"/>
                  <a:pt x="16545" y="11261"/>
                </a:cubicBezTo>
                <a:cubicBezTo>
                  <a:pt x="16563" y="11472"/>
                  <a:pt x="16425" y="11613"/>
                  <a:pt x="16297" y="11782"/>
                </a:cubicBezTo>
                <a:cubicBezTo>
                  <a:pt x="16136" y="11994"/>
                  <a:pt x="16554" y="11788"/>
                  <a:pt x="16694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4840" y="4037040"/>
            <a:ext cx="115920" cy="1951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16991" y="11212"/>
                </a:moveTo>
                <a:cubicBezTo>
                  <a:pt x="16890" y="11272"/>
                  <a:pt x="16853" y="11279"/>
                  <a:pt x="16818" y="11385"/>
                </a:cubicBezTo>
                <a:cubicBezTo>
                  <a:pt x="16866" y="11434"/>
                  <a:pt x="17176" y="11620"/>
                  <a:pt x="17140" y="11683"/>
                </a:cubicBezTo>
                <a:cubicBezTo>
                  <a:pt x="17062" y="11736"/>
                  <a:pt x="17033" y="11753"/>
                  <a:pt x="16966" y="11757"/>
                </a:cubicBezTo>
                <a:cubicBezTo>
                  <a:pt x="16967" y="11629"/>
                  <a:pt x="17143" y="11392"/>
                  <a:pt x="17090" y="11261"/>
                </a:cubicBezTo>
                <a:cubicBezTo>
                  <a:pt x="17074" y="11261"/>
                  <a:pt x="17057" y="11261"/>
                  <a:pt x="17041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15040" y="392904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7264" y="10964"/>
                </a:moveTo>
                <a:cubicBezTo>
                  <a:pt x="17348" y="10940"/>
                  <a:pt x="17413" y="10920"/>
                  <a:pt x="17487" y="10939"/>
                </a:cubicBezTo>
                <a:cubicBezTo>
                  <a:pt x="17462" y="10984"/>
                  <a:pt x="17283" y="11211"/>
                  <a:pt x="17314" y="11212"/>
                </a:cubicBezTo>
                <a:cubicBezTo>
                  <a:pt x="17355" y="11204"/>
                  <a:pt x="17397" y="11195"/>
                  <a:pt x="17438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3880" y="4017960"/>
            <a:ext cx="162000" cy="46080"/>
          </a:xfrm>
          <a:custGeom>
            <a:avLst/>
            <a:gdLst/>
            <a:ahLst/>
            <a:rect l="l" t="t" r="r" b="b"/>
            <a:pathLst>
              <a:path w="448" h="125">
                <a:moveTo>
                  <a:pt x="17983" y="11286"/>
                </a:moveTo>
                <a:cubicBezTo>
                  <a:pt x="18138" y="11224"/>
                  <a:pt x="18265" y="11192"/>
                  <a:pt x="18430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18160" y="4098960"/>
            <a:ext cx="730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18107" y="11410"/>
                </a:moveTo>
                <a:cubicBezTo>
                  <a:pt x="18199" y="11410"/>
                  <a:pt x="18241" y="11407"/>
                  <a:pt x="18306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6720" y="3973680"/>
            <a:ext cx="187200" cy="179280"/>
          </a:xfrm>
          <a:custGeom>
            <a:avLst/>
            <a:gdLst/>
            <a:ahLst/>
            <a:rect l="l" t="t" r="r" b="b"/>
            <a:pathLst>
              <a:path w="521" h="497">
                <a:moveTo>
                  <a:pt x="19100" y="11063"/>
                </a:moveTo>
                <a:cubicBezTo>
                  <a:pt x="19179" y="11149"/>
                  <a:pt x="18949" y="11056"/>
                  <a:pt x="18901" y="11162"/>
                </a:cubicBezTo>
                <a:cubicBezTo>
                  <a:pt x="18778" y="11431"/>
                  <a:pt x="19007" y="11626"/>
                  <a:pt x="19273" y="11509"/>
                </a:cubicBezTo>
                <a:cubicBezTo>
                  <a:pt x="19306" y="11476"/>
                  <a:pt x="19339" y="11443"/>
                  <a:pt x="19372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83280" y="3803760"/>
            <a:ext cx="125640" cy="108000"/>
          </a:xfrm>
          <a:custGeom>
            <a:avLst/>
            <a:gdLst/>
            <a:ahLst/>
            <a:rect l="l" t="t" r="r" b="b"/>
            <a:pathLst>
              <a:path w="349" h="298">
                <a:moveTo>
                  <a:pt x="19397" y="10592"/>
                </a:moveTo>
                <a:cubicBezTo>
                  <a:pt x="19480" y="10582"/>
                  <a:pt x="19528" y="10572"/>
                  <a:pt x="19621" y="10567"/>
                </a:cubicBezTo>
                <a:cubicBezTo>
                  <a:pt x="19620" y="10689"/>
                  <a:pt x="19545" y="10742"/>
                  <a:pt x="19447" y="10840"/>
                </a:cubicBezTo>
                <a:cubicBezTo>
                  <a:pt x="19559" y="10870"/>
                  <a:pt x="19628" y="10857"/>
                  <a:pt x="19745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64040" y="4643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791" y="12898"/>
                </a:moveTo>
                <a:lnTo>
                  <a:pt x="13791" y="1289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8840" y="4581360"/>
            <a:ext cx="133200" cy="9864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3717" y="12725"/>
                </a:moveTo>
                <a:cubicBezTo>
                  <a:pt x="13717" y="12781"/>
                  <a:pt x="13675" y="13011"/>
                  <a:pt x="13767" y="12998"/>
                </a:cubicBezTo>
                <a:cubicBezTo>
                  <a:pt x="13876" y="12983"/>
                  <a:pt x="13990" y="12907"/>
                  <a:pt x="14089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45040" y="4545000"/>
            <a:ext cx="19080" cy="233280"/>
          </a:xfrm>
          <a:custGeom>
            <a:avLst/>
            <a:gdLst/>
            <a:ahLst/>
            <a:rect l="l" t="t" r="r" b="b"/>
            <a:pathLst>
              <a:path w="50" h="646">
                <a:moveTo>
                  <a:pt x="14015" y="12626"/>
                </a:moveTo>
                <a:cubicBezTo>
                  <a:pt x="14049" y="12827"/>
                  <a:pt x="14064" y="13017"/>
                  <a:pt x="14064" y="13221"/>
                </a:cubicBezTo>
                <a:cubicBezTo>
                  <a:pt x="14064" y="13238"/>
                  <a:pt x="14064" y="13254"/>
                  <a:pt x="14064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60960" y="4581360"/>
            <a:ext cx="9828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4337" y="12725"/>
                </a:moveTo>
                <a:cubicBezTo>
                  <a:pt x="14337" y="12816"/>
                  <a:pt x="14337" y="12907"/>
                  <a:pt x="14337" y="12998"/>
                </a:cubicBezTo>
                <a:cubicBezTo>
                  <a:pt x="14431" y="12968"/>
                  <a:pt x="14518" y="12934"/>
                  <a:pt x="14610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24320" y="4537080"/>
            <a:ext cx="44640" cy="249120"/>
          </a:xfrm>
          <a:custGeom>
            <a:avLst/>
            <a:gdLst/>
            <a:ahLst/>
            <a:rect l="l" t="t" r="r" b="b"/>
            <a:pathLst>
              <a:path w="125" h="695">
                <a:moveTo>
                  <a:pt x="14511" y="12601"/>
                </a:moveTo>
                <a:cubicBezTo>
                  <a:pt x="14565" y="12815"/>
                  <a:pt x="14612" y="13026"/>
                  <a:pt x="14635" y="13246"/>
                </a:cubicBezTo>
                <a:cubicBezTo>
                  <a:pt x="14635" y="13262"/>
                  <a:pt x="14635" y="13279"/>
                  <a:pt x="14635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75160" y="4518000"/>
            <a:ext cx="73080" cy="223920"/>
          </a:xfrm>
          <a:custGeom>
            <a:avLst/>
            <a:gdLst/>
            <a:ahLst/>
            <a:rect l="l" t="t" r="r" b="b"/>
            <a:pathLst>
              <a:path w="200" h="621">
                <a:moveTo>
                  <a:pt x="14932" y="12551"/>
                </a:moveTo>
                <a:cubicBezTo>
                  <a:pt x="15004" y="12737"/>
                  <a:pt x="15038" y="12934"/>
                  <a:pt x="15106" y="13122"/>
                </a:cubicBezTo>
                <a:cubicBezTo>
                  <a:pt x="15114" y="13138"/>
                  <a:pt x="15123" y="13155"/>
                  <a:pt x="15131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70720" y="4537080"/>
            <a:ext cx="44280" cy="150840"/>
          </a:xfrm>
          <a:custGeom>
            <a:avLst/>
            <a:gdLst/>
            <a:ahLst/>
            <a:rect l="l" t="t" r="r" b="b"/>
            <a:pathLst>
              <a:path w="125" h="422">
                <a:moveTo>
                  <a:pt x="15751" y="12601"/>
                </a:moveTo>
                <a:cubicBezTo>
                  <a:pt x="15805" y="12729"/>
                  <a:pt x="15843" y="12865"/>
                  <a:pt x="15875" y="12998"/>
                </a:cubicBezTo>
                <a:cubicBezTo>
                  <a:pt x="15875" y="13006"/>
                  <a:pt x="15875" y="13014"/>
                  <a:pt x="15875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26080" y="4599000"/>
            <a:ext cx="177840" cy="44280"/>
          </a:xfrm>
          <a:custGeom>
            <a:avLst/>
            <a:gdLst/>
            <a:ahLst/>
            <a:rect l="l" t="t" r="r" b="b"/>
            <a:pathLst>
              <a:path w="497" h="125">
                <a:moveTo>
                  <a:pt x="15627" y="12898"/>
                </a:moveTo>
                <a:cubicBezTo>
                  <a:pt x="15794" y="12862"/>
                  <a:pt x="15964" y="12832"/>
                  <a:pt x="16123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9840" y="4438800"/>
            <a:ext cx="144360" cy="214200"/>
          </a:xfrm>
          <a:custGeom>
            <a:avLst/>
            <a:gdLst/>
            <a:ahLst/>
            <a:rect l="l" t="t" r="r" b="b"/>
            <a:pathLst>
              <a:path w="397" h="596">
                <a:moveTo>
                  <a:pt x="16446" y="12402"/>
                </a:moveTo>
                <a:cubicBezTo>
                  <a:pt x="16462" y="12490"/>
                  <a:pt x="16470" y="12561"/>
                  <a:pt x="16470" y="12650"/>
                </a:cubicBezTo>
                <a:cubicBezTo>
                  <a:pt x="16470" y="12374"/>
                  <a:pt x="16506" y="12522"/>
                  <a:pt x="16718" y="12427"/>
                </a:cubicBezTo>
                <a:cubicBezTo>
                  <a:pt x="16794" y="12371"/>
                  <a:pt x="16807" y="12368"/>
                  <a:pt x="16842" y="12328"/>
                </a:cubicBezTo>
                <a:cubicBezTo>
                  <a:pt x="16842" y="12528"/>
                  <a:pt x="16826" y="12724"/>
                  <a:pt x="16818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34040" y="4456080"/>
            <a:ext cx="73080" cy="196920"/>
          </a:xfrm>
          <a:custGeom>
            <a:avLst/>
            <a:gdLst/>
            <a:ahLst/>
            <a:rect l="l" t="t" r="r" b="b"/>
            <a:pathLst>
              <a:path w="199" h="546">
                <a:moveTo>
                  <a:pt x="17214" y="12378"/>
                </a:moveTo>
                <a:cubicBezTo>
                  <a:pt x="17128" y="12428"/>
                  <a:pt x="16979" y="12523"/>
                  <a:pt x="17066" y="12650"/>
                </a:cubicBezTo>
                <a:cubicBezTo>
                  <a:pt x="17147" y="12768"/>
                  <a:pt x="17328" y="12808"/>
                  <a:pt x="17165" y="12898"/>
                </a:cubicBezTo>
                <a:cubicBezTo>
                  <a:pt x="17024" y="12846"/>
                  <a:pt x="17167" y="12655"/>
                  <a:pt x="17239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76960" y="4456080"/>
            <a:ext cx="117360" cy="98280"/>
          </a:xfrm>
          <a:custGeom>
            <a:avLst/>
            <a:gdLst/>
            <a:ahLst/>
            <a:rect l="l" t="t" r="r" b="b"/>
            <a:pathLst>
              <a:path w="323" h="273">
                <a:moveTo>
                  <a:pt x="17462" y="12378"/>
                </a:moveTo>
                <a:cubicBezTo>
                  <a:pt x="17446" y="12456"/>
                  <a:pt x="17388" y="12650"/>
                  <a:pt x="17537" y="12650"/>
                </a:cubicBezTo>
                <a:cubicBezTo>
                  <a:pt x="17653" y="12628"/>
                  <a:pt x="17687" y="12622"/>
                  <a:pt x="17760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57960" y="4402080"/>
            <a:ext cx="27000" cy="233280"/>
          </a:xfrm>
          <a:custGeom>
            <a:avLst/>
            <a:gdLst/>
            <a:ahLst/>
            <a:rect l="l" t="t" r="r" b="b"/>
            <a:pathLst>
              <a:path w="75" h="646">
                <a:moveTo>
                  <a:pt x="17661" y="12229"/>
                </a:moveTo>
                <a:cubicBezTo>
                  <a:pt x="17661" y="12406"/>
                  <a:pt x="17681" y="12576"/>
                  <a:pt x="17711" y="12750"/>
                </a:cubicBezTo>
                <a:cubicBezTo>
                  <a:pt x="17719" y="12791"/>
                  <a:pt x="17727" y="12833"/>
                  <a:pt x="17735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6160" y="4749840"/>
            <a:ext cx="750960" cy="233280"/>
          </a:xfrm>
          <a:custGeom>
            <a:avLst/>
            <a:gdLst/>
            <a:ahLst/>
            <a:rect l="l" t="t" r="r" b="b"/>
            <a:pathLst>
              <a:path w="2084" h="646">
                <a:moveTo>
                  <a:pt x="15156" y="13469"/>
                </a:moveTo>
                <a:cubicBezTo>
                  <a:pt x="15188" y="13592"/>
                  <a:pt x="15209" y="13716"/>
                  <a:pt x="15230" y="13841"/>
                </a:cubicBezTo>
                <a:cubicBezTo>
                  <a:pt x="15621" y="13763"/>
                  <a:pt x="17010" y="13781"/>
                  <a:pt x="17239" y="13543"/>
                </a:cubicBezTo>
                <a:cubicBezTo>
                  <a:pt x="17302" y="13478"/>
                  <a:pt x="17188" y="13265"/>
                  <a:pt x="17165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45080" y="5106960"/>
            <a:ext cx="36720" cy="216000"/>
          </a:xfrm>
          <a:custGeom>
            <a:avLst/>
            <a:gdLst/>
            <a:ahLst/>
            <a:rect l="l" t="t" r="r" b="b"/>
            <a:pathLst>
              <a:path w="100" h="597">
                <a:moveTo>
                  <a:pt x="15404" y="14188"/>
                </a:moveTo>
                <a:cubicBezTo>
                  <a:pt x="15431" y="14381"/>
                  <a:pt x="15489" y="14564"/>
                  <a:pt x="15503" y="14759"/>
                </a:cubicBezTo>
                <a:cubicBezTo>
                  <a:pt x="15503" y="14767"/>
                  <a:pt x="15503" y="14776"/>
                  <a:pt x="15503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5126040"/>
            <a:ext cx="34920" cy="177840"/>
          </a:xfrm>
          <a:custGeom>
            <a:avLst/>
            <a:gdLst/>
            <a:ahLst/>
            <a:rect l="l" t="t" r="r" b="b"/>
            <a:pathLst>
              <a:path w="100" h="497">
                <a:moveTo>
                  <a:pt x="16098" y="14238"/>
                </a:moveTo>
                <a:cubicBezTo>
                  <a:pt x="16120" y="14389"/>
                  <a:pt x="16176" y="14532"/>
                  <a:pt x="16197" y="14684"/>
                </a:cubicBezTo>
                <a:cubicBezTo>
                  <a:pt x="16197" y="14701"/>
                  <a:pt x="16197" y="14717"/>
                  <a:pt x="16197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19840" y="5099040"/>
            <a:ext cx="108000" cy="179280"/>
          </a:xfrm>
          <a:custGeom>
            <a:avLst/>
            <a:gdLst/>
            <a:ahLst/>
            <a:rect l="l" t="t" r="r" b="b"/>
            <a:pathLst>
              <a:path w="298" h="498">
                <a:moveTo>
                  <a:pt x="16446" y="14213"/>
                </a:moveTo>
                <a:cubicBezTo>
                  <a:pt x="16600" y="14172"/>
                  <a:pt x="16593" y="14149"/>
                  <a:pt x="16718" y="14238"/>
                </a:cubicBezTo>
                <a:cubicBezTo>
                  <a:pt x="16683" y="14323"/>
                  <a:pt x="16474" y="14645"/>
                  <a:pt x="16545" y="14660"/>
                </a:cubicBezTo>
                <a:cubicBezTo>
                  <a:pt x="16663" y="14660"/>
                  <a:pt x="16684" y="14674"/>
                  <a:pt x="16743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26120" y="5072040"/>
            <a:ext cx="13356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7190" y="14089"/>
                </a:moveTo>
                <a:cubicBezTo>
                  <a:pt x="17099" y="14126"/>
                  <a:pt x="17044" y="14152"/>
                  <a:pt x="17016" y="14263"/>
                </a:cubicBezTo>
                <a:cubicBezTo>
                  <a:pt x="17016" y="14288"/>
                  <a:pt x="17016" y="14312"/>
                  <a:pt x="17016" y="14337"/>
                </a:cubicBezTo>
                <a:cubicBezTo>
                  <a:pt x="17085" y="14344"/>
                  <a:pt x="17347" y="14254"/>
                  <a:pt x="17388" y="14387"/>
                </a:cubicBezTo>
                <a:cubicBezTo>
                  <a:pt x="17450" y="14587"/>
                  <a:pt x="17181" y="14643"/>
                  <a:pt x="17066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75240" y="5089680"/>
            <a:ext cx="142920" cy="18720"/>
          </a:xfrm>
          <a:custGeom>
            <a:avLst/>
            <a:gdLst/>
            <a:ahLst/>
            <a:rect l="l" t="t" r="r" b="b"/>
            <a:pathLst>
              <a:path w="397" h="50">
                <a:moveTo>
                  <a:pt x="17711" y="14188"/>
                </a:moveTo>
                <a:cubicBezTo>
                  <a:pt x="17845" y="14160"/>
                  <a:pt x="17970" y="14145"/>
                  <a:pt x="18107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19880" y="5133960"/>
            <a:ext cx="81000" cy="19080"/>
          </a:xfrm>
          <a:custGeom>
            <a:avLst/>
            <a:gdLst/>
            <a:ahLst/>
            <a:rect l="l" t="t" r="r" b="b"/>
            <a:pathLst>
              <a:path w="224" h="50">
                <a:moveTo>
                  <a:pt x="17835" y="14312"/>
                </a:moveTo>
                <a:cubicBezTo>
                  <a:pt x="17942" y="14286"/>
                  <a:pt x="17983" y="14276"/>
                  <a:pt x="18058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88080" y="5000760"/>
            <a:ext cx="162000" cy="16956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18827" y="13965"/>
                </a:moveTo>
                <a:cubicBezTo>
                  <a:pt x="18655" y="13851"/>
                  <a:pt x="18564" y="13997"/>
                  <a:pt x="18579" y="14213"/>
                </a:cubicBezTo>
                <a:cubicBezTo>
                  <a:pt x="18599" y="14501"/>
                  <a:pt x="18878" y="14341"/>
                  <a:pt x="19025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482292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9050" y="13419"/>
                </a:moveTo>
                <a:cubicBezTo>
                  <a:pt x="19108" y="13411"/>
                  <a:pt x="19165" y="13401"/>
                  <a:pt x="19224" y="13395"/>
                </a:cubicBezTo>
                <a:cubicBezTo>
                  <a:pt x="19251" y="13546"/>
                  <a:pt x="19202" y="13603"/>
                  <a:pt x="19100" y="13717"/>
                </a:cubicBezTo>
                <a:cubicBezTo>
                  <a:pt x="19230" y="13711"/>
                  <a:pt x="19344" y="13695"/>
                  <a:pt x="19472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8080" y="5545080"/>
            <a:ext cx="768600" cy="473040"/>
          </a:xfrm>
          <a:custGeom>
            <a:avLst/>
            <a:gdLst/>
            <a:ahLst/>
            <a:rect l="l" t="t" r="r" b="b"/>
            <a:pathLst>
              <a:path w="2134" h="1315">
                <a:moveTo>
                  <a:pt x="15329" y="16371"/>
                </a:moveTo>
                <a:cubicBezTo>
                  <a:pt x="15430" y="16461"/>
                  <a:pt x="15523" y="16595"/>
                  <a:pt x="15627" y="16694"/>
                </a:cubicBezTo>
                <a:cubicBezTo>
                  <a:pt x="15644" y="16702"/>
                  <a:pt x="15660" y="16710"/>
                  <a:pt x="15677" y="16718"/>
                </a:cubicBezTo>
                <a:cubicBezTo>
                  <a:pt x="15677" y="16477"/>
                  <a:pt x="15633" y="16270"/>
                  <a:pt x="15528" y="16049"/>
                </a:cubicBezTo>
                <a:cubicBezTo>
                  <a:pt x="15493" y="15975"/>
                  <a:pt x="15418" y="15867"/>
                  <a:pt x="15379" y="15801"/>
                </a:cubicBezTo>
                <a:cubicBezTo>
                  <a:pt x="15713" y="15698"/>
                  <a:pt x="16075" y="15666"/>
                  <a:pt x="16421" y="15602"/>
                </a:cubicBezTo>
                <a:cubicBezTo>
                  <a:pt x="16767" y="15538"/>
                  <a:pt x="17113" y="15440"/>
                  <a:pt x="17462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8000" y="5749920"/>
            <a:ext cx="36360" cy="206280"/>
          </a:xfrm>
          <a:custGeom>
            <a:avLst/>
            <a:gdLst/>
            <a:ahLst/>
            <a:rect l="l" t="t" r="r" b="b"/>
            <a:pathLst>
              <a:path w="100" h="572">
                <a:moveTo>
                  <a:pt x="15801" y="15974"/>
                </a:moveTo>
                <a:cubicBezTo>
                  <a:pt x="15818" y="16166"/>
                  <a:pt x="15859" y="16354"/>
                  <a:pt x="15900" y="165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2920" y="6116760"/>
            <a:ext cx="196920" cy="17928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9422" y="17041"/>
                </a:moveTo>
                <a:cubicBezTo>
                  <a:pt x="19422" y="17057"/>
                  <a:pt x="19422" y="17074"/>
                  <a:pt x="19422" y="17090"/>
                </a:cubicBezTo>
                <a:cubicBezTo>
                  <a:pt x="19299" y="16953"/>
                  <a:pt x="19089" y="17181"/>
                  <a:pt x="19149" y="17388"/>
                </a:cubicBezTo>
                <a:cubicBezTo>
                  <a:pt x="19206" y="17586"/>
                  <a:pt x="19564" y="17471"/>
                  <a:pt x="19695" y="174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ythagorean Theorem Workshe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00:11Z</dcterms:created>
  <dc:creator>ccps</dc:creator>
  <dc:description/>
  <dc:language>en-US</dc:language>
  <cp:lastModifiedBy>demcgra</cp:lastModifiedBy>
  <dcterms:modified xsi:type="dcterms:W3CDTF">2012-02-14T20:23:56Z</dcterms:modified>
  <cp:revision>10</cp:revision>
  <dc:subject/>
  <dc:title>Obj 9.3:  To use the Pythagorean Theorem to solve right triangles.</dc:title>
</cp:coreProperties>
</file>